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7083-5761-4AAB-8F94-354F4CDCA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9434-00B0-439D-B877-443847F60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687A-9413-4BBB-BAAB-94F8DF1B0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4A79-6E1E-4FBE-B5BD-8DDFBCC90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272C-7E1A-4DA5-9231-9F3B00CF5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D0DB-AE4A-4288-A390-1D7E65F97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D538-BA19-41A7-98E7-9AE2C1754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2026-FBC8-4382-AA61-FB7B97A30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8972-1D14-4B69-9634-036401BFF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1997-6E09-4C8D-9EFF-DCBB6DE62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394C-E0E1-4E58-B822-D645E813C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1FFC-A411-4A8C-BA5D-B65262563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E2DC-67A4-46D5-AB01-AFE43EBA0E4B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MPO%20logo%20RGB200dpi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mailto:sedlak@mpo.cz" TargetMode="External"/><Relationship Id="rId3" Type="http://schemas.openxmlformats.org/officeDocument/2006/relationships/hyperlink" Target="mailto:sedlak@mpo.cz" TargetMode="External"/><Relationship Id="rId4" Type="http://schemas.openxmlformats.org/officeDocument/2006/relationships/hyperlink" Target="mailto:sedlak@mpo.cz" TargetMode="External"/><Relationship Id="rId5" Type="http://schemas.openxmlformats.org/officeDocument/2006/relationships/hyperlink" Target="mailto:sedlak@mpo.cz" TargetMode="External"/><Relationship Id="rId6" Type="http://schemas.openxmlformats.org/officeDocument/2006/relationships/hyperlink" Target="http://www.mpo.cz/" TargetMode="External"/><Relationship Id="rId7" Type="http://schemas.openxmlformats.org/officeDocument/2006/relationships/hyperlink" Target="http://www.mpo.cz/" TargetMode="External"/><Relationship Id="rId8" Type="http://schemas.openxmlformats.org/officeDocument/2006/relationships/hyperlink" Target="http://www.mpo.cz/" TargetMode="External"/><Relationship Id="rId9" Type="http://schemas.openxmlformats.org/officeDocument/2006/relationships/hyperlink" Target="http://www.mpo.cz/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mits.esa.int/emits/owa/emits.main" TargetMode="External"/><Relationship Id="rId2" Type="http://schemas.openxmlformats.org/officeDocument/2006/relationships/hyperlink" Target="http://www.esa.int/home-ind/" TargetMode="External"/><Relationship Id="rId3" Type="http://schemas.openxmlformats.org/officeDocument/2006/relationships/hyperlink" Target="mailto:idhelp@esa.int" TargetMode="External"/><Relationship Id="rId4" Type="http://schemas.openxmlformats.org/officeDocument/2006/relationships/hyperlink" Target="mailto:idhelp@esa.int" TargetMode="External"/><Relationship Id="rId5" Type="http://schemas.openxmlformats.org/officeDocument/2006/relationships/hyperlink" Target="mailto:idhelp@esa.in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mits.esa.in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PO%20logo%20RGB200dpi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yžadované informace jsou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děleny podle typu firmy: 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Industrial Firm (průmyslová firma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ervice Firm (služb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Non-Profit Organisation (nezisková organiz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ther (dalš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lavní informace: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A, B a D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ntity Identification (Identifik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Executice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fficial Registration (Oficiální registrace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generál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VAT </a:t>
            </a:r>
            <a:r>
              <a:rPr b="1" lang="en-US" sz="16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 Social Security Numbers 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Chief Financial Officer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Organisation Chart (organizační tabulka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finanční ředitel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Establishments (ustanovení)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Space Business Manager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(manažer vesmírných obchodů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Kontakty: (Jen pro C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Institution / Dean (ředitel instituce / děkan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Head of Administration (ředitel administrace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Responsible for Space Activities (odpovědná osoba za vesmírné aktivity)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4492" t="12367" r="17399" b="54567"/>
          <a:stretch/>
        </p:blipFill>
        <p:spPr>
          <a:xfrm>
            <a:off x="4343400" y="1066680"/>
            <a:ext cx="44956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E17E-8A24-4604-BC95-67AFEC322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4 Obsah dotazníků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avidla pro všechny stejná v oblastech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ktivity / Projekty / Produkty a Servi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aff </a:t>
            </a:r>
            <a:r>
              <a:rPr b="1" lang="en-US" sz="1800" spc="-1" strike="noStrike">
                <a:solidFill>
                  <a:srgbClr val="0e85c0"/>
                </a:solidFill>
                <a:latin typeface="Times New Roman"/>
              </a:rPr>
              <a:t>&amp;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Facilities (zařízení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ey Financial Figures (klíčová finanční tabulk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Ownership: (vlastnictví, pouze A,B a D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tructural Relations (struktur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Working Relations (pracovní vztah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rm Shareholder (akcionáři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ubsidiary (podpora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hievements: (pouze C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Activities (vesmírné aktivi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Space Projects (vesmírné projekty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ctivities not related to Space (aktivity bez zaměření na vesmír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DC53-8525-4816-A46B-391E13EAF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1 Tipy pro registraci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jprve si předčtěte dokumentaci na průmyslovém portál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vstupte do systému a uložte si PIN nebo ID/PW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uveďte typ organizace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likněte na “View All“ a vytiskněte si dotazní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volte si svého koordinátor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koordinujte interní dat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začněte vyplňovat elektronický dotazník pouze pokud budete mít 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šechna data zkompletizován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dvakrát zkontrolujte místa označená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*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nezapomeňte na pravidelné připojení (důležité k ověření platnosti)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- buďte opatrní na informace, které obdržíte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86BB-BD6B-4558-A474-210A2D56FD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5.2 Časté chyb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ředstava že aktualizace vaší práce je ztracena při pohledu do View módu: musíte přejít do Edit mód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yplnění pouze 2 ze 3 polí u kontaktů: musí být vyplněno country code (číslo státu), area code (číslo oblasti), number (vlastní číslo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“None“ nebo NA pokud je vyžadován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nezvolení nebo nevložení funkce v kartě busines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2 dny před vypršením projektu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speciální registrace pro laboratoře, univerzity, úřad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1002-DC3A-4C05-8ED4-EDAA1838B5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jednoduchá procedura zavolat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ESA-Mr Verdin tel: +331 5369 7119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uvedení důležitých informací jako jméno, kontakt a emailové adresy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- pro sublevels bude vytvořen kód ESABD pro doplnění dalších kontaktních informac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4821-03AA-4675-BEFA-E06ADD08E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1721" t="9376" r="21093" b="13540"/>
          <a:stretch/>
        </p:blipFill>
        <p:spPr>
          <a:xfrm>
            <a:off x="1752480" y="1447920"/>
            <a:ext cx="5715000" cy="48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E17E-092A-40EF-AFC1-65E8B1A91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1721" t="12502" r="21876" b="21878"/>
          <a:stretch/>
        </p:blipFill>
        <p:spPr>
          <a:xfrm>
            <a:off x="1371600" y="14479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9B1A-30D2-443F-9C5F-E61DF4074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Registr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3 Proces registrace neziskových organizací: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811" t="9376" r="25782" b="12502"/>
          <a:stretch/>
        </p:blipFill>
        <p:spPr>
          <a:xfrm>
            <a:off x="1752480" y="1447920"/>
            <a:ext cx="5410440" cy="477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9676-29C8-4649-9B3B-85707EF734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2500" t="10420" r="13282" b="17709"/>
          <a:stretch/>
        </p:blipFill>
        <p:spPr>
          <a:xfrm>
            <a:off x="990720" y="1143000"/>
            <a:ext cx="723888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B60B-2AD5-4D99-B972-B5C1BBDBE5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0938" t="11458" r="12500" b="21878"/>
          <a:stretch/>
        </p:blipFill>
        <p:spPr>
          <a:xfrm>
            <a:off x="685800" y="1219320"/>
            <a:ext cx="74674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2C9C-3115-445B-8890-EC44B0131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600"/>
            </a:b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PO%20logo%20RGB200dpi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1721" t="18753" r="11721" b="20835"/>
          <a:stretch/>
        </p:blipFill>
        <p:spPr>
          <a:xfrm>
            <a:off x="762120" y="1219320"/>
            <a:ext cx="74674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A5FA-10CC-4DB4-8114-9BB4E27BBE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8594" t="11458" r="10938" b="17709"/>
          <a:stretch/>
        </p:blipFill>
        <p:spPr>
          <a:xfrm>
            <a:off x="457200" y="1143000"/>
            <a:ext cx="78487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1626-0F3E-4336-AEA7-867AFC8CDE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9376" t="17709" r="9376" b="20835"/>
          <a:stretch/>
        </p:blipFill>
        <p:spPr>
          <a:xfrm>
            <a:off x="609480" y="14479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8A1F-3313-4ACB-82EB-2DE28EB22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6. Rejstřík úspěšných registrací v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7811" t="28124" r="9376" b="25004"/>
          <a:stretch/>
        </p:blipFill>
        <p:spPr>
          <a:xfrm>
            <a:off x="457200" y="1828800"/>
            <a:ext cx="80773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A659-5C9B-4D78-BBA7-497FE255E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3282" t="10420" r="13282" b="16666"/>
          <a:stretch/>
        </p:blipFill>
        <p:spPr>
          <a:xfrm>
            <a:off x="990720" y="1219320"/>
            <a:ext cx="66294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FCD6-8515-4873-A579-2533C21110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 (neschválený)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0155" t="10420" r="10938" b="18753"/>
          <a:stretch/>
        </p:blipFill>
        <p:spPr>
          <a:xfrm>
            <a:off x="609480" y="1066680"/>
            <a:ext cx="769644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B391-9EC8-44F2-B5F4-5D307D9CFD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808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7. Příklady dotazníků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8594" t="9376" r="10155" b="20835"/>
          <a:stretch/>
        </p:blipFill>
        <p:spPr>
          <a:xfrm>
            <a:off x="533520" y="1143000"/>
            <a:ext cx="792468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0919-4849-4C8D-A7E7-32C359F171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Esa on-line Tenderers</a:t>
            </a:r>
            <a:br>
              <a:rPr sz="3400"/>
            </a:br>
            <a:r>
              <a:rPr b="1" lang="cs-CZ" sz="3400" spc="-1" strike="noStrike">
                <a:solidFill>
                  <a:srgbClr val="0e85c0"/>
                </a:solidFill>
                <a:latin typeface="Times New Roman"/>
              </a:rPr>
              <a:t>Registrační systém EMITS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   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       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54EE-58C1-4306-9291-BD47353EE9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Obsah: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roč se registrovat do EMITS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ontakt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Filozofie registračního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Kde mohu začít?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1 Nový žadatel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2 Stávající uživatel 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3 Co je důležité na systému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4.4 Obsah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gistrace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1 Tipy pro registraci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2 Časté chyb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- 5.3 Proces registrace neziskových organizací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Rejstřík registrací v ČR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říklady dotazníků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B93-0110-41C3-AC9C-E22373463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Proč se registrovat do EMITS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individuálního (ESABD) kódu nutného k identifikaci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obdržení přístupového jména a hesla k přístupu do ITT informačních balíčků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ravidelné informování o vypisovaných tendrech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ESABD důležité pro další kontrak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A7C2-FDC7-4389-81C1-1EA665EE4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Kontakt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Adresa EMITS: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/emits/owa/emits.main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Detailní informace o registraci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esa.int/home-ind/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Podpora: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CPOs (procure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Deneuwelaere (RES-PGP)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73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s Oppenheimer (RES-PG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40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Reynaud (RES-PG)Head/Office 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7161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Finance (payments)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fried Erker (RES-FEI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17 1565 3110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SA Industrial Policy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R JL Verdin (RES-P)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11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Eric Guilmet (RES-P)Head/division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31 5369 7349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chnická podpora: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idhelp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@esa.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int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tel: +390 6941 80444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Times New Roman"/>
              </a:rPr>
              <a:t>sedlak@mpo.cz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051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rcRect l="33618" t="13642" r="4964" b="73976"/>
          <a:stretch/>
        </p:blipFill>
        <p:spPr>
          <a:xfrm>
            <a:off x="4419720" y="1905120"/>
            <a:ext cx="353376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B514-8AAD-4A52-90C3-D1BECD773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3. Filozofie registračního systému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ficiální registrace: ESA chce mít informace o firmách zabývajících se kosmickým průmyslem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Hlavní informace: potřebné k ověření firem (nemusí docházet k opakovanému prověřování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Kontakty: Esa potřebuje kontakty na řídící orgány u firem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Aktivity: Esa nabízí příležitost registrovaným vytvořit si svou vlastní technologii a marketing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Role EMITS: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zlepšení kvality poskytovaných informa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update dotazník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ochrana informací o zákazníkovi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521A-6FE0-4ABB-9203-9DBDB4D52A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?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emits.esa.in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Nový žadatel: “Entity Registration“, obdržíte PIN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620120" cy="42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9827-00A0-4330-9D0A-9804C8D1BE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Stávající uživatel: “LOGIN“ použijte uživatelské jméno a heslo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3389" t="10169" r="2543" b="24295"/>
          <a:stretch/>
        </p:blipFill>
        <p:spPr>
          <a:xfrm>
            <a:off x="304920" y="1676520"/>
            <a:ext cx="8229600" cy="43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991E-9E7C-4875-BF50-2A1780046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Kde mohu začí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4.3 Co je důležité na systému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registrace umožní přistup k Legal Entities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v sekci dotazníků je barevné značení a to od </a:t>
            </a:r>
            <a:r>
              <a:rPr b="1" lang="cs-CZ" sz="2400" spc="-1" strike="noStrike">
                <a:solidFill>
                  <a:srgbClr val="00e4a8"/>
                </a:solidFill>
                <a:latin typeface="Times New Roman"/>
              </a:rPr>
              <a:t>zelené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po </a:t>
            </a:r>
            <a:r>
              <a:rPr b="1" lang="cs-CZ" sz="2400" spc="-1" strike="noStrike">
                <a:solidFill>
                  <a:srgbClr val="ffcf01"/>
                </a:solidFill>
                <a:latin typeface="Times New Roman"/>
              </a:rPr>
              <a:t>žlut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až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červeno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do 8 sekcí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mnoho polí je označeno červenou hvězdou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, tato pole je nutné vypln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! Důležité je ukládat veškeré změny před přechodem do hlavní obrazovky, ukládání může trvat delší dobu, vždy si uložená data zkontrolujte, jinak budou ztracena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57480" t="33086" r="13428" b="46186"/>
          <a:stretch/>
        </p:blipFill>
        <p:spPr>
          <a:xfrm>
            <a:off x="762120" y="3657600"/>
            <a:ext cx="2057400" cy="109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7175" t="35217" r="47850" b="45915"/>
          <a:stretch/>
        </p:blipFill>
        <p:spPr>
          <a:xfrm>
            <a:off x="3886200" y="3733920"/>
            <a:ext cx="335268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7DB8-0FD7-49AC-B5A5-EC2F2D8FD1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7:49:12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16T13:25:40Z</dcterms:modified>
  <cp:revision>25</cp:revision>
  <dc:subject/>
  <dc:title>Prezentace aplikace PowerPoint</dc:title>
</cp:coreProperties>
</file>