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463F-8BEE-42D5-B40E-3D335E1B7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2ADA-F21F-4B8E-8CD6-094689E72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5B5A-A243-4F9B-9EC0-B2C785904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F142-83CF-4663-92BE-C145CDE8A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9969-D8A9-4AAD-8093-8CBCC65F6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06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080" y="125856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06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080" y="3814920"/>
            <a:ext cx="27478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DB91-C66D-4C76-9A24-10530F1F3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5BCA-9AC3-4031-9977-442540844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E474-692A-4993-AC17-D65F61837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64008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FD47-3028-47A1-9913-5F57145FD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5C5D-2E1A-42AE-8CE6-260BADAEA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1492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408A-B1AB-4467-9C8F-C741989E9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58560"/>
            <a:ext cx="41644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14920"/>
            <a:ext cx="85341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6AC8-AD9E-465B-B93E-280C1ED1D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19440" y="6224760"/>
            <a:ext cx="190512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0e85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8ECA-191A-405E-862B-10530A2D5028}" type="slidenum">
              <a:rPr b="1" lang="cs-CZ" sz="1400" spc="-1" strike="noStrike">
                <a:solidFill>
                  <a:srgbClr val="0e85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248520"/>
            <a:ext cx="2590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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2009</a:t>
            </a:r>
            <a:r>
              <a:rPr b="0" lang="cs-CZ" sz="1000" spc="-1" strike="noStrike">
                <a:solidFill>
                  <a:srgbClr val="0e85c0"/>
                </a:solidFill>
                <a:latin typeface="Symbol"/>
                <a:ea typeface="Symbol"/>
              </a:rPr>
              <a:t></a:t>
            </a:r>
            <a:r>
              <a:rPr b="0" lang="cs-CZ" sz="1000" spc="-1" strike="noStrike">
                <a:solidFill>
                  <a:srgbClr val="0e85c0"/>
                </a:solidFill>
                <a:latin typeface="Arial"/>
              </a:rPr>
              <a:t>Ministerstvo průmyslu a obcho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77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e85c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570720"/>
            <a:ext cx="8540640" cy="287280"/>
          </a:xfrm>
          <a:prstGeom prst="rect">
            <a:avLst/>
          </a:prstGeom>
          <a:solidFill>
            <a:srgbClr val="0e8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85c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lvl="1" marL="4572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85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85c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edlak@mpo.cz" TargetMode="External"/><Relationship Id="rId2" Type="http://schemas.openxmlformats.org/officeDocument/2006/relationships/hyperlink" Target="http://www.mpo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po.cz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371680"/>
            <a:ext cx="4317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0384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Bc. Vladimír Sedl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8480" y="5775840"/>
            <a:ext cx="413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e85c0"/>
                </a:solidFill>
                <a:latin typeface="Arial"/>
              </a:rPr>
              <a:t>©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 2009 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  <a:ea typeface="SimSun"/>
              </a:rPr>
              <a:t>Minist</a:t>
            </a:r>
            <a:r>
              <a:rPr b="1" lang="cs-CZ" sz="1600" spc="-1" strike="noStrike">
                <a:solidFill>
                  <a:srgbClr val="0e85c0"/>
                </a:solidFill>
                <a:latin typeface="Arial"/>
              </a:rPr>
              <a:t>erstvo průmyslu a obch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97840" y="539640"/>
            <a:ext cx="1224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Obsa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58920"/>
            <a:ext cx="85341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1. Výzva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1 Pro koho je určena.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e85c0"/>
                </a:solidFill>
                <a:latin typeface="Times New Roman"/>
              </a:rPr>
              <a:t>1.2 Rozpočet a určení</a:t>
            </a:r>
            <a:endParaRPr b="1" lang="en-US" sz="32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2. Podmínky a důvody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r>
              <a:rPr b="1" lang="cs-CZ" sz="3600" spc="-1" strike="noStrike">
                <a:solidFill>
                  <a:srgbClr val="0e85c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FE66-013E-4767-9F84-900EBC8337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1. Výzva</a:t>
            </a:r>
            <a:r>
              <a:rPr b="1" lang="cs-CZ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Dne 16. března 2009 byla v systému EMITS zveřejně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Výzva pro podávání návrhů projektových záměrů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ýzva je určena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uze pro české firmy, univerzity a výzkumná pracoviště</a:t>
            </a: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. Zájemci mohou podat zjednodušené „vlastní i již vyvíjené“ projektové návrhy ze všech technologických oblastí, ve kterých se Evropská kosmická agentura (ESA) angažuje (viz slide 5)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e85c0"/>
                </a:solidFill>
                <a:latin typeface="Times New Roman"/>
              </a:rPr>
              <a:t>V systému EMITS jsou vypsány další konkrétní tendry určené pro ČR s veškerou specifikací a s datem uzávěrky. Pro podrobnější informace je nutná registrace do systému</a:t>
            </a:r>
            <a:r>
              <a:rPr b="1" lang="cs-CZ" sz="2400" spc="-1" strike="noStrike">
                <a:solidFill>
                  <a:srgbClr val="0e85c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9CA6-F5F7-4681-8A41-F13C0CDB6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1 Pro koho jsou určeny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ýzva pro podání projektových záměrů s termínem 15. květen je určena pro: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a)    letový hardware, s upřednostněním aktivit spojených se základním vybavením družic, senzorů či obecných technologií s potenciálem opětovného využití (rozpočet návrhu nesmí přesáhnout 1 0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b)    výzkumné a vývojové aktivity (včetně studií proveditelnosti) vedoucí k produktům (hardware nebo software), službám, ověření technologií, anebo obecným technologiím s potenciálem opětovného využití (rozpočet návrhu nesmí přesáhnout 200 000 Euro),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c)    přípravné aktivity (např. studie, formulace uživatelských požadavků, průzkumy trhu) podporující českou konkurenceschopnost v programech ESA (povinných a volitelných), kterých se Česká republika účastní (rozpočet návrhu nesmí přesáhnout 100 000 Euro).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875E-CD51-47E5-BE04-2EFBA429B3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1.2 Rozpočet a určení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Celkový rozpočet vyčleněný pro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tuto Výzvu</a:t>
            </a: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 je               2 500 000 Euro. V rámci této Výzvy mohou podávat návrhy pouze společnosti nebo organizace sídlící v České republice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Konsorcia zahrnující společnosti nebo organizace z jiných členských států mohou být schválena pouze v případě náležitého odůvodnění jejich zapojení. Úkoly přidělené subjektům mimo Českou republiku nesmí v žádném případě tvořit hlavní aktivity navrhovaného záměru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Vzdělávací a informační aktivity nejsou součástí této Výzvy. 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E0E0-FA71-4374-ACB6-A2D3E69B0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2. Podmínky a důvody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ýzva je otevřena pouze do 15. května 2009 </a:t>
            </a:r>
            <a:r>
              <a:rPr b="1" lang="cs-CZ" sz="2400" spc="-1" strike="noStrike" u="sng">
                <a:solidFill>
                  <a:srgbClr val="11a0e7"/>
                </a:solidFill>
                <a:uFillTx/>
                <a:latin typeface="Times New Roman"/>
              </a:rPr>
              <a:t>jen </a:t>
            </a: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pro podávání návrhů projektových záměrů v rámci pobídkového programu pro český průmysl (tzv. Czech Republic's Industry Incentive Scheme)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1a0e7"/>
                </a:solidFill>
                <a:latin typeface="Times New Roman"/>
              </a:rPr>
              <a:t>Do ostatních tendrů vypsaných v systému EMITS je možno se přihlašovat i nadále do data uzavření vypsaného tendru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škeré schválené projektové záměry budou kompletně financovány agenturou ESA. Registrace v systému EMITS je bezplatná. 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ostor mají veškeré organizace po zaregistrování do systému EMITS.</a:t>
            </a: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8C48-BFA7-48BF-A557-D40AA6CC0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58560"/>
            <a:ext cx="85341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e85c0"/>
                </a:solidFill>
                <a:latin typeface="Times New Roman"/>
              </a:rPr>
              <a:t>Závěr:</a:t>
            </a: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Prezentaci 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ESA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vytvořil Bc</a:t>
            </a: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. Vladimír Sedlák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sedlak@mpo.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e85c0"/>
                </a:solidFill>
                <a:latin typeface="Times New Roman"/>
              </a:rPr>
              <a:t>Tel: +420 224 852 59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Ministerstvo průmyslu a obchodu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e85c0"/>
                </a:solidFill>
                <a:latin typeface="Times New Roman"/>
              </a:rPr>
              <a:t>Na Františku 32, Praha 1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mpo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cz</a:t>
            </a: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e85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C811-BCD9-4699-82FF-2894012CC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8:56:03Z</dcterms:created>
  <dc:creator>Vladimír Sedlák</dc:creator>
  <dc:description/>
  <dc:language>en-US</dc:language>
  <cp:lastModifiedBy>Vladimír Sedlák </cp:lastModifiedBy>
  <cp:lastPrinted>2009-04-22T19:24:48Z</cp:lastPrinted>
  <dcterms:modified xsi:type="dcterms:W3CDTF">2009-04-23T09:01:21Z</dcterms:modified>
  <cp:revision>38</cp:revision>
  <dc:subject/>
  <dc:title>Prezentace aplikace PowerPoint</dc:title>
</cp:coreProperties>
</file>