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EAAB-2464-4C24-BBFE-1C6EFF18E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29545-9736-417E-B27B-1453689F0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361C-EF09-42BE-B2A6-DF85FBDAE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2B94-8EB3-4D9B-B097-D7761573B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B954-10E6-438E-BCDE-A6726C20A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D598-E244-426D-95C2-A0720720C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FA39-6FF4-4E36-A173-AA10E0C84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DF2C-1C7B-49AC-96F5-9336671F0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325D-F4C7-4DFF-A3F2-B8C0F80E2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AB59-B21A-40A7-9C96-8F0CF23F2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4407-7DD0-45B8-BB0A-3C56E71F3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3550-D38C-4378-97BA-8B1618F31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B21F-0F60-453A-82CC-8CBD38D080F1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5. Zapojení ČR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ok 2009 celková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ástka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6 870 584 eur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vin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Basic Activities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cientific Programm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olitelné aktivit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GMES Space Component Segment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LPP Period 2 Step 2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1A2F-8936-49D8-ABAB-DB95F526EB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1 Časový horizont aktivit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060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rogramy" descr="Volitelné programy"/>
          <p:cNvPicPr/>
          <p:nvPr/>
        </p:nvPicPr>
        <p:blipFill>
          <a:blip r:embed="rId1"/>
          <a:stretch/>
        </p:blipFill>
        <p:spPr>
          <a:xfrm>
            <a:off x="914400" y="914400"/>
            <a:ext cx="6934320" cy="52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DA07-7016-4F97-B866-B114460B35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5.2 Finanční závazky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762120"/>
          <a:ext cx="9144000" cy="55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88C4-74EA-4869-838D-10834E6ED3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385E-EF0B-458B-9B26-11ADD174C0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2. Říz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3. Přistoupení ČR k ESA - PECS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4. Členství ČR v ESA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1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Finan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žň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1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 v ESA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2 Task Force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4.3 Výzva pro podávání návrhů projektových záměrů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5. Zapojení ČR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1 Časový horizont aktivit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5.2 Finanční závazky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E69D-5E71-49C6-8E03-C0F9D6DE7E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lavní poslání organiza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udržovat a rozvíjet evropské dopravní prostředky pro přístup do kosmu, zajišťovat širokou technologickou základnu a kapacitu evropského průmyslu, která dokáže navrhovat, vyrábět a provozovat kosmické systémy a doprovodnou pozemní infrastrukturu</a:t>
            </a:r>
            <a:r>
              <a:rPr b="0" lang="cs-CZ" sz="2000" spc="-1" strike="noStrike">
                <a:solidFill>
                  <a:srgbClr val="0e85c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koordinovat evropskou strategii a politiku pro kosmonautiku,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rozšiřovat vědecké znalosti o naší planetě, sluneční soustavě a vesmíru stejně jako            o materiálech a živých organismech s využitím Mezinárodní kosmické stanice, družic  a meziplanetárních sond,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at získané technické dovednosti a poznatky k uspokojování stále náro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jších nároků spole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i a trhu.</a:t>
            </a:r>
            <a:r>
              <a:rPr b="0" lang="cs-CZ" sz="1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4003-D609-45AC-8857-0032301D05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Říz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inisterská rada ESA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jednou za tři roky (2008 Haag)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Rady ESA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pr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myslovou politiku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AF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administraci a financ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R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mezinárodní vztahy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C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– Výbor pro bezpe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56C7-273E-4912-A1C6-4A2D3A3ADC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P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ř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toupení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k ESA - PECS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poskytnout za určitých podmínek i nečlenskému státu možnost připojit se ke stávajícím programům ESA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9,7 milionu Euro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 řešení 28 projektů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970A-69E8-4395-B5F3-414BF1CE3D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4. Členství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br>
              <a:rPr sz="3000"/>
            </a:b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1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an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í poplatky umo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žň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jíc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nství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Č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v ESA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stupní poplatek ve výši 2,9 mil €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ovin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ispívají všechny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nsk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ecký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kladní aktivity ES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olitelné programy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dle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zájmu k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dé ze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o daný obor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- pozorování země, telekomunikace …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návratnost: 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84% prost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dk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lo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ných do povin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a a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94% z jednotlivých volitelných program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81524-BEF5-49FD-85CA-DB52BEC2A2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2 Task Force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Task Force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řídí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y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ž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vání 45%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ského fina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ího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s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k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konkurenceschopnost průmyslu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polupodíl na 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výzev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seminá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 a workshop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lastní provozní rozpo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čet  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DE91-FE80-4D52-85C0-68EECEFBD7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705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4.3 </a:t>
            </a:r>
            <a:r>
              <a:rPr b="1" lang="cs-CZ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Výzva pro podávání návrhů projektových záměrů</a:t>
            </a:r>
            <a:r>
              <a:rPr b="0" lang="cs-CZ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16. b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zna 2009 byla v systému EMITS zv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ejn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na Výzva pro podávání návrh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 projektových zám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ě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r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ů,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výzva je otevřena pouze do 15. května 2009, veškeré úspěšně schválené projekty jsou kompletně hrazeny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va je vyhrazena pro: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letový hardware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(1 000 000 Euro)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výzkumné a vývojov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(2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p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ř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  <a:ea typeface="Times New Roman"/>
              </a:rPr>
              <a:t>ípravné aktivity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(100 000 Euro)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7C62-FB3F-4E5E-8B7E-94C9BCF058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1T10:58:16Z</dcterms:modified>
  <cp:revision>30</cp:revision>
  <dc:subject/>
  <dc:title>Prezentace aplikace PowerPoint</dc:title>
</cp:coreProperties>
</file>