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4825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35604-583E-4E02-9A2B-231C677E42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E7385-6E3E-4B11-816F-CF96EFF90D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24BFB-F66E-4308-BF58-C654BD9F18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4C898-24C1-4B99-83E8-223E4D01E6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333C5-37C1-427E-B695-ECC9F5FEEF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06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0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06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0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AEE15-2521-4639-A12B-19453D8198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C1A4D-4B15-414D-A880-4F798DD7B1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E67D2-C035-4352-856A-BECCF90D5F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1F9FD-7518-497B-BBB2-AA709F0DFB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47BBC-A720-48BC-9F4C-37C61957E3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EB737-D799-4A4A-8393-128FBC74E6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FA688-5E3C-42F4-9183-78272E71D1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619440" y="6224760"/>
            <a:ext cx="1905120" cy="3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0e85c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7227B-25BA-4A2E-8494-D74EA60E1809}" type="slidenum">
              <a:rPr b="1" lang="cs-CZ" sz="1400" spc="-1" strike="noStrike">
                <a:solidFill>
                  <a:srgbClr val="0e85c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04920" y="6570720"/>
            <a:ext cx="8540640" cy="287280"/>
          </a:xfrm>
          <a:prstGeom prst="rect">
            <a:avLst/>
          </a:prstGeom>
          <a:solidFill>
            <a:srgbClr val="0e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400800" y="6248520"/>
            <a:ext cx="2590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e85c0"/>
                </a:solidFill>
                <a:latin typeface="Symbol"/>
                <a:ea typeface="Symbol"/>
              </a:rPr>
              <a:t></a:t>
            </a:r>
            <a:r>
              <a:rPr b="0" lang="cs-CZ" sz="1000" spc="-1" strike="noStrike">
                <a:solidFill>
                  <a:srgbClr val="0e85c0"/>
                </a:solidFill>
                <a:latin typeface="Arial"/>
              </a:rPr>
              <a:t>2009</a:t>
            </a:r>
            <a:r>
              <a:rPr b="0" lang="cs-CZ" sz="1000" spc="-1" strike="noStrike">
                <a:solidFill>
                  <a:srgbClr val="0e85c0"/>
                </a:solidFill>
                <a:latin typeface="Symbol"/>
                <a:ea typeface="Symbol"/>
              </a:rPr>
              <a:t></a:t>
            </a:r>
            <a:r>
              <a:rPr b="0" lang="cs-CZ" sz="1000" spc="-1" strike="noStrike">
                <a:solidFill>
                  <a:srgbClr val="0e85c0"/>
                </a:solidFill>
                <a:latin typeface="Arial"/>
              </a:rPr>
              <a:t>Ministerstvo průmyslu a obchod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197840" y="539640"/>
            <a:ext cx="1224000" cy="51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28778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e85c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6570720"/>
            <a:ext cx="8540640" cy="287280"/>
          </a:xfrm>
          <a:prstGeom prst="rect">
            <a:avLst/>
          </a:prstGeom>
          <a:solidFill>
            <a:srgbClr val="0e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457200" algn="ctr"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85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sedlak@mpo.cz" TargetMode="External"/><Relationship Id="rId2" Type="http://schemas.openxmlformats.org/officeDocument/2006/relationships/hyperlink" Target="http://www.mpo.cz/" TargetMode="External"/><Relationship Id="rId3" Type="http://schemas.openxmlformats.org/officeDocument/2006/relationships/hyperlink" Target="http://www.mpo.cz/" TargetMode="External"/><Relationship Id="rId4" Type="http://schemas.openxmlformats.org/officeDocument/2006/relationships/hyperlink" Target="http://www.mpo.cz/" TargetMode="External"/><Relationship Id="rId5" Type="http://schemas.openxmlformats.org/officeDocument/2006/relationships/hyperlink" Target="http://www.mpo.cz/" TargetMode="External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362320" y="2371680"/>
            <a:ext cx="431784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2666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ESA</a:t>
            </a:r>
            <a:endParaRPr b="1" lang="en-US" sz="36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28800" y="4038480"/>
            <a:ext cx="5410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Bc. Vladimír Sedlá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08480" y="5775840"/>
            <a:ext cx="4134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e85c0"/>
                </a:solidFill>
                <a:latin typeface="Arial"/>
              </a:rPr>
              <a:t>©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</a:rPr>
              <a:t> 2009 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  <a:ea typeface="SimSun"/>
              </a:rPr>
              <a:t>Minist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</a:rPr>
              <a:t>erstvo průmyslu a obcho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197840" y="539640"/>
            <a:ext cx="122400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bsah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258920"/>
            <a:ext cx="853416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1. Výzva</a:t>
            </a:r>
            <a:endParaRPr b="1" lang="en-US" sz="36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1.1 Pro koho je určena.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1.2 Rozpočet a určení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2. Podmínky a důvody</a:t>
            </a:r>
            <a:endParaRPr b="1" lang="en-US" sz="36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36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0164A-A646-4D01-B7E7-68EC7FA7266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Arial"/>
              </a:rPr>
              <a:t>1. Výzva</a:t>
            </a:r>
            <a:r>
              <a:rPr b="1" lang="cs-CZ" sz="3000" spc="-1" strike="noStrike">
                <a:solidFill>
                  <a:srgbClr val="ff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Dne 16. března 2009 byla v systému EMITS zveřejněna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Výzva pro podávání návrhů projektových záměrů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v rámci pobídkového programu pro český průmysl (tzv. Czech Republic's Industry Incentive Scheme).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Výzva je určena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pouze pro české firmy, univerzity a výzkumná pracoviště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. Zájemci mohou podat zjednodušené „vlastní i již vyvíjené“ projektové návrhy ze všech technologických oblastí, ve kterých se Evropská kosmická agentura (ESA) angažuje (viz slide 5).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V systému EMITS jsou vypsány další konkrétní tendry určené pro ČR s veškerou specifikací a s datem uzávěrky. Pro podrobnější informace je nutná registrace do systému</a:t>
            </a:r>
            <a:r>
              <a:rPr b="1" lang="cs-CZ" sz="2400" spc="-1" strike="noStrike">
                <a:solidFill>
                  <a:srgbClr val="0e85c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FE850-69B2-4B42-80BD-BB367162396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1.1 Pro koho jsou určeny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Výzva pro podání projektových záměrů s termínem 15. květen je určena pro: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a)    letový hardware, s upřednostněním aktivit spojených se základním vybavením družic, senzorů či obecných technologií s potenciálem opětovného využití (rozpočet návrhu nesmí přesáhnout 1 000 000 Euro),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b)    výzkumné a vývojové aktivity (včetně studií proveditelnosti) vedoucí k produktům (hardware nebo software), službám, ověření technologií, anebo obecným technologiím s potenciálem opětovného využití (rozpočet návrhu nesmí přesáhnout 200 000 Euro),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c)    přípravné aktivity (např. studie, formulace uživatelských požadavků, průzkumy trhu) podporující českou konkurenceschopnost v programech ESA (povinných a volitelných), kterých se Česká republika účastní (rozpočet návrhu nesmí přesáhnout 100 000 Euro).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F71B2-E03A-4AE1-BC6B-1A8CABE34BD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1.2 Rozpočet a určení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Celkový rozpočet vyčleněný pro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tuto Výzvu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je               2 500 000 Euro. V rámci této Výzvy mohou podávat návrhy pouze společnosti nebo organizace sídlící v České republice.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Konsorcia zahrnující společnosti nebo organizace z jiných členských států mohou být schválena pouze v případě náležitého odůvodnění jejich zapojení. Úkoly přidělené subjektům mimo Českou republiku nesmí v žádném případě tvořit hlavní aktivity navrhovaného záměru.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Vzdělávací a informační aktivity nejsou součástí této Výzvy.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4CC06-424C-4C70-A9E0-F26AB18C677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2. Podmínky a důvody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f0000"/>
                </a:solidFill>
                <a:uFillTx/>
                <a:latin typeface="Times New Roman"/>
              </a:rPr>
              <a:t>Výzva je otevřena pouze do 15. května 2009 </a:t>
            </a:r>
            <a:r>
              <a:rPr b="1" lang="cs-CZ" sz="2400" spc="-1" strike="noStrike" u="sng">
                <a:solidFill>
                  <a:srgbClr val="11a0e7"/>
                </a:solidFill>
                <a:uFillTx/>
                <a:latin typeface="Times New Roman"/>
              </a:rPr>
              <a:t>jen </a:t>
            </a:r>
            <a:r>
              <a:rPr b="1" lang="cs-CZ" sz="2400" spc="-1" strike="noStrike">
                <a:solidFill>
                  <a:srgbClr val="11a0e7"/>
                </a:solidFill>
                <a:latin typeface="Times New Roman"/>
              </a:rPr>
              <a:t>pro podávání návrhů projektových záměrů v rámci pobídkového programu pro český průmysl (tzv. Czech Republic's Industry Incentive Scheme).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1a0e7"/>
                </a:solidFill>
                <a:latin typeface="Times New Roman"/>
              </a:rPr>
              <a:t>Do ostatních tendrů vypsaných v systému EMITS je možno se přihlašovat i nadále do data uzavření vypsaného tendru.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f0000"/>
                </a:solidFill>
                <a:uFillTx/>
                <a:latin typeface="Times New Roman"/>
              </a:rPr>
              <a:t>Veškeré schválené projektové záměry budou kompletně financovány agenturou ESA. Registrace v systému EMITS je bezplatná.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f0000"/>
                </a:solidFill>
                <a:uFillTx/>
                <a:latin typeface="Times New Roman"/>
              </a:rPr>
              <a:t>Prostor mají veškeré organizace po zaregistrování do systému EMITS.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AA69F-B0C9-4C8A-8CFF-BE3EA62F4D2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Závěr: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Prezentaci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ESA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vytvořil Bc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. Vladimír Sedlák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sedlak@mpo.cz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Tel: +420 224 852 591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Ministerstvo průmyslu a obchodu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Na Františku 32, Praha 1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www.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3"/>
              </a:rPr>
              <a:t>mpo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4"/>
              </a:rPr>
              <a:t>.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5"/>
              </a:rPr>
              <a:t>cz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DE1F3-57D3-4C7B-A758-9C04EABCCBD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08:56:03Z</dcterms:created>
  <dc:creator>Vladimír Sedlák</dc:creator>
  <dc:description/>
  <dc:language>en-US</dc:language>
  <cp:lastModifiedBy>Vladimír Sedlák </cp:lastModifiedBy>
  <cp:lastPrinted>2009-04-22T19:24:48Z</cp:lastPrinted>
  <dcterms:modified xsi:type="dcterms:W3CDTF">2009-04-23T09:01:21Z</dcterms:modified>
  <cp:revision>38</cp:revision>
  <dc:subject/>
  <dc:title>Prezentace aplikace PowerPoint</dc:title>
</cp:coreProperties>
</file>