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0E720-1F49-4C88-A6B9-61B1AE57C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2F9E6-05B4-4CF3-8709-41C1B3060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5AF21-F4AF-4230-ADB6-9BA866FFD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7CE6-D8E9-4617-96AD-3520A3C5D9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75D9C-3F54-4EDA-82F8-00CEDF409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C389-E40F-4882-93E4-C33172A5F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AE7BA-8F02-4FE4-BC57-7018CAE35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08ED9-4477-49AC-849E-09FCE0C21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06026-F895-475F-AF6D-54E63A9B4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1FFA-8036-422A-8735-EB303C31C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56DC6-A501-45CF-983F-B37D8828E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83A79-F705-41CB-A88E-7DEECF7FB6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494E-24B6-4E1A-AD58-BBC0B5216480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MPO%20logo%20RGB200dpi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mailto:sedlak@mpo.cz" TargetMode="External"/><Relationship Id="rId3" Type="http://schemas.openxmlformats.org/officeDocument/2006/relationships/hyperlink" Target="mailto:sedlak@mpo.cz" TargetMode="External"/><Relationship Id="rId4" Type="http://schemas.openxmlformats.org/officeDocument/2006/relationships/hyperlink" Target="mailto:sedlak@mpo.cz" TargetMode="External"/><Relationship Id="rId5" Type="http://schemas.openxmlformats.org/officeDocument/2006/relationships/hyperlink" Target="mailto:sedlak@mpo.cz" TargetMode="External"/><Relationship Id="rId6" Type="http://schemas.openxmlformats.org/officeDocument/2006/relationships/hyperlink" Target="http://www.mpo.cz/" TargetMode="External"/><Relationship Id="rId7" Type="http://schemas.openxmlformats.org/officeDocument/2006/relationships/hyperlink" Target="http://www.mpo.cz/" TargetMode="External"/><Relationship Id="rId8" Type="http://schemas.openxmlformats.org/officeDocument/2006/relationships/hyperlink" Target="http://www.mpo.cz/" TargetMode="External"/><Relationship Id="rId9" Type="http://schemas.openxmlformats.org/officeDocument/2006/relationships/hyperlink" Target="http://www.mpo.cz/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mits.esa.int/emits/owa/emits.main" TargetMode="External"/><Relationship Id="rId2" Type="http://schemas.openxmlformats.org/officeDocument/2006/relationships/hyperlink" Target="http://www.esa.int/home-ind/" TargetMode="External"/><Relationship Id="rId3" Type="http://schemas.openxmlformats.org/officeDocument/2006/relationships/hyperlink" Target="mailto:idhelp@esa.int" TargetMode="External"/><Relationship Id="rId4" Type="http://schemas.openxmlformats.org/officeDocument/2006/relationships/hyperlink" Target="mailto:idhelp@esa.int" TargetMode="External"/><Relationship Id="rId5" Type="http://schemas.openxmlformats.org/officeDocument/2006/relationships/hyperlink" Target="mailto:idhelp@esa.int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mits.esa.int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MPO%20logo%20RGB200dpi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yžadované informace jsou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děleny podle typu firmy: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Industrial Firm (průmyslová firma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ervice Firm (služb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Non-Profit Organisation (nezisková organiz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ther (dalš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lavní informace: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A, B a D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ntity Identification (Identifik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Executice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fficial Registration (Oficiální registr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generál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AT </a:t>
            </a:r>
            <a:r>
              <a:rPr b="1" lang="en-US" sz="16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 Social Security Numbers 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Financial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rganisation Chart (organizační tabulka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finanč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stablishments (ustanoven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pace Business Manager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manažer vesmírných obchodů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C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Institution / Dean (ředitel instituce / děkan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Administration (ředitel administr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Responsible for Space Activities (odpovědná osoba za vesmírné aktivit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2416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4492" t="12367" r="17399" b="54567"/>
          <a:stretch/>
        </p:blipFill>
        <p:spPr>
          <a:xfrm>
            <a:off x="4343400" y="1066680"/>
            <a:ext cx="449568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A9CAE-35D5-4DA8-8627-73AA20B3DF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avidla pro všechny stejná v oblastech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ktivity / Projekty / Produkty a Servi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aff </a:t>
            </a:r>
            <a:r>
              <a:rPr b="1" lang="en-US" sz="18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Facilities (zařízení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ey Financial Figures (klíčová finanční tabulk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Ownership: (vlastnictví, pouze A,B a D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ructural Relations (struktur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Working Relations (pracov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rm Shareholder (akcionáři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ubsidiary (podpor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hievements: (pouze C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Activities (vesmírné aktivi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Projects (vesmírné projek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tivities not related to Space (aktivity bez zaměření na vesmír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432A1-7CB1-47BE-AAA8-8AE2912FB8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1 Tipy pro registraci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jprve si předčtěte dokumentaci na průmyslovém portál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vstupte do systému a uložte si PIN nebo ID/PW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uveďte typ organizace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likněte na “View All“ a vytiskněte si dotazní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volte si svého koordinátor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oordinujte interní dat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ačněte vyplňovat elektronický dotazník pouze pokud budete mít 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šechna data zkompletizován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dvakrát zkontrolujte místa označená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*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zapomeňte na pravidelné připojení (důležité k ověření platnosti)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buďte opatrní na informace, které obdržíte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F0C5-2701-49DC-8CD0-D6795E2631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2 Časté chyb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ředstava že aktualizace vaší práce je ztracena při pohledu do View módu: musíte přejít do Edit mód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yplnění pouze 2 ze 3 polí u kontaktů: musí být vyplněno country code (číslo státu), area code (číslo oblasti), number (vlastní číslo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“None“ nebo NA pokud je vyžadován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nebo nevložení funkce v kartě busines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2 dny před vypršením projekt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speciální registrace pro laboratoře, univerzity, úřad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27CF3-BDF0-4BC9-A106-44B3A1B4BC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jednoduchá procedura zavolat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ESA-Mr Verdin tel: +331 5369 7119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uvedení důležitých informací jako jméno, kontakt a emailové adresy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pro sublevels bude vytvořen kód ESABD pro doplnění dalších kontaktních informac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07920-5221-4A39-989E-157CC4F6AB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1721" t="9376" r="21093" b="13540"/>
          <a:stretch/>
        </p:blipFill>
        <p:spPr>
          <a:xfrm>
            <a:off x="1752480" y="1447920"/>
            <a:ext cx="5715000" cy="484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DBA5-BDD0-4ACC-B316-24FD464412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1721" t="12502" r="21876" b="21878"/>
          <a:stretch/>
        </p:blipFill>
        <p:spPr>
          <a:xfrm>
            <a:off x="1371600" y="1447920"/>
            <a:ext cx="647712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5C5B-A14D-41E8-AB3E-FF5E77D656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7811" t="9376" r="25782" b="12502"/>
          <a:stretch/>
        </p:blipFill>
        <p:spPr>
          <a:xfrm>
            <a:off x="1752480" y="1447920"/>
            <a:ext cx="5410440" cy="47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40731-A00E-4BC5-95A4-7C6FE27AB3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12500" t="10420" r="13282" b="17709"/>
          <a:stretch/>
        </p:blipFill>
        <p:spPr>
          <a:xfrm>
            <a:off x="990720" y="1143000"/>
            <a:ext cx="723888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3A14B-EF29-4873-A183-0B4A14A456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10938" t="11458" r="12500" b="21878"/>
          <a:stretch/>
        </p:blipFill>
        <p:spPr>
          <a:xfrm>
            <a:off x="685800" y="1219320"/>
            <a:ext cx="746748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0B715-F1F4-4D00-8F4A-882F6AF015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600"/>
            </a:b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MPO%20logo%20RGB200dpi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1721" t="18753" r="11721" b="20835"/>
          <a:stretch/>
        </p:blipFill>
        <p:spPr>
          <a:xfrm>
            <a:off x="762120" y="1219320"/>
            <a:ext cx="746748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A83B-EF9E-40ED-8E90-AE1F3DE430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8594" t="11458" r="10938" b="17709"/>
          <a:stretch/>
        </p:blipFill>
        <p:spPr>
          <a:xfrm>
            <a:off x="457200" y="1143000"/>
            <a:ext cx="78487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51042-F53B-496A-8A0E-766E7E7D9D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9376" t="17709" r="9376" b="20835"/>
          <a:stretch/>
        </p:blipFill>
        <p:spPr>
          <a:xfrm>
            <a:off x="609480" y="1447920"/>
            <a:ext cx="792504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B35A6-E1C2-4A20-931D-6ED2A3E313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7811" t="28124" r="9376" b="25004"/>
          <a:stretch/>
        </p:blipFill>
        <p:spPr>
          <a:xfrm>
            <a:off x="457200" y="1828800"/>
            <a:ext cx="80773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E7757-6A3F-4625-949B-85B85CBA9E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13282" t="10420" r="13282" b="16666"/>
          <a:stretch/>
        </p:blipFill>
        <p:spPr>
          <a:xfrm>
            <a:off x="990720" y="1219320"/>
            <a:ext cx="6629400" cy="49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CC19E-9968-41B7-A94E-EB07CC99A36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ne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10155" t="10420" r="10938" b="18753"/>
          <a:stretch/>
        </p:blipFill>
        <p:spPr>
          <a:xfrm>
            <a:off x="609480" y="1066680"/>
            <a:ext cx="769644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F55ED-378D-4B8A-A3DC-2AF5AF7AA6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3808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8594" t="9376" r="10155" b="20835"/>
          <a:stretch/>
        </p:blipFill>
        <p:spPr>
          <a:xfrm>
            <a:off x="533520" y="1143000"/>
            <a:ext cx="792468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886CC-FB3B-4A7C-942F-BD7B4057B4D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400"/>
            </a:b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   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@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8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9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FC308-A8FB-46E2-9662-91FD4C891F7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Obsah: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oč se registrovat do EMITS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ontakt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lozofie registračního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de mohu začít?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1 Nový žadatel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2 Stávající uživatel 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3 Co je důležité na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4 Obsah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gistra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1 Tipy pro registraci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2 Časté chyb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3 Proces registrace neziskových organizací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jstřík registrací v ČR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říklady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C8DE-6A9F-4649-82F3-91B7516027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Proč se registrovat do EMITS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individuálního (ESABD) kódu nutného k identifikaci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přístupového jména a hesla k přístupu do ITT informačních balíčků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ravidelné informování o vypisovaných tendrech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ESABD důležité pro další kontrak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ABC3A-03ED-4F90-BAEC-F56F4A40BF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Kontak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dresa EMITS: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/emits/owa/emits.main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Detailní informace o registraci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esa.int/home-ind/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odpora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CPOs (procure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Deneuwelaere (RES-PGP)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73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Oppenheimer (RES-PG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40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Reynaud (RES-PG)Head/Office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7161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Finance (pay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fried Erker (RES-FEI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31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Industrial Polic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JL Verdin (RES-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1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ic Guilmet (RES-P)Head/division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34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chnická podpora: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idhelp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@esa.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int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90 6941 80444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</a:rPr>
              <a:t>sedlak@mpo.cz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051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rcRect l="33618" t="13642" r="4964" b="73976"/>
          <a:stretch/>
        </p:blipFill>
        <p:spPr>
          <a:xfrm>
            <a:off x="4419720" y="1905120"/>
            <a:ext cx="3533760" cy="53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C04DE-2808-4CFB-8DCE-30EA5DE5F9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. Filozofie registračního systému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ficiální registrace: ESA chce mít informace o firmách zabývajících se kosmickým průmyslem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Hlavní informace: potřebné k ověření firem (nemusí docházet k opakovanému prověřování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Kontakty: Esa potřebuje kontakty na řídící orgány u firem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Aktivity: Esa nabízí příležitost registrovaným vytvořit si svou vlastní technologii a marketing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Role EMITS: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zlepšení kvality poskytovaných informa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update dotazník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chrana informací o zákazníkovi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6FDB9-B5BB-4504-87DF-DB0BE963D6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?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Nový žadatel: “Entity Registration“, obdržíte PIN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7620120" cy="42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2ABF0-4B5F-4020-B21D-52C2208A0F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Stávající uživatel: “LOGIN“ použijte uživatelské jméno a hesl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3389" t="10169" r="2543" b="24295"/>
          <a:stretch/>
        </p:blipFill>
        <p:spPr>
          <a:xfrm>
            <a:off x="304920" y="1676520"/>
            <a:ext cx="8229600" cy="43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1FF93-5088-41B4-94DB-C7F3AFCE6B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3 Co je důležité na systému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umožní přistup k Legal Entitie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 sekci dotazníků je barevné značení a to od </a:t>
            </a:r>
            <a:r>
              <a:rPr b="1" lang="cs-CZ" sz="2400" spc="-1" strike="noStrike">
                <a:solidFill>
                  <a:srgbClr val="00e4a8"/>
                </a:solidFill>
                <a:latin typeface="Times New Roman"/>
              </a:rPr>
              <a:t>zelené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po </a:t>
            </a:r>
            <a:r>
              <a:rPr b="1" lang="cs-CZ" sz="2400" spc="-1" strike="noStrike">
                <a:solidFill>
                  <a:srgbClr val="ffcf01"/>
                </a:solidFill>
                <a:latin typeface="Times New Roman"/>
              </a:rPr>
              <a:t>žlut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až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červen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do 8 sek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mnoho polí je označeno červenou hvězdou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, tato pole je nutné vypln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! Důležité je ukládat veškeré změny před přechodem do hlavní obrazovky, ukládání může trvat delší dobu, vždy si uložená data zkontrolujte, jinak budou ztracena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57480" t="33086" r="13428" b="46186"/>
          <a:stretch/>
        </p:blipFill>
        <p:spPr>
          <a:xfrm>
            <a:off x="762120" y="3657600"/>
            <a:ext cx="2057400" cy="109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7672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7175" t="35217" r="47850" b="45915"/>
          <a:stretch/>
        </p:blipFill>
        <p:spPr>
          <a:xfrm>
            <a:off x="3886200" y="3733920"/>
            <a:ext cx="3352680" cy="104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E038E-3B0C-48D2-991A-34C2309689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7:49:12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16T13:25:40Z</dcterms:modified>
  <cp:revision>25</cp:revision>
  <dc:subject/>
  <dc:title>Prezentace aplikace PowerPoint</dc:title>
</cp:coreProperties>
</file>