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91774-9B00-4CA7-A012-94DEFC470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6F121-2B48-402B-8E43-0295F63FB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FCC7-93F9-4D12-9B15-8AF8F7654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03D4E-2BE9-4599-A257-8B0586773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9B84A-EAAD-41EC-9952-A962B911E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05701-AC8F-4FC3-B132-D093A1219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EC145-7370-4BBC-84F1-7A653756A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54DDF-FC51-4061-ADA9-A5E37AA07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0147-9F8C-419E-84CB-6085D26BC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F4CB9-4AB3-4CE9-883E-DCABF434C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B41E-AB35-4AE4-9DD9-650C23259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579F-A913-4C94-9314-7FEFFE6AE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FADB-49B9-4377-91CE-74B0654FD962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Zapojení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ok 2009 celková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ástka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6 870 584 eur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vin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Basic Activities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cientific Programm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olitel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GMES Space Component Segment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LPP Period 2 Step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B252-B860-4852-90E3-945A2B986B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1 Časový horizont aktivit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060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rogramy" descr="Volitelné programy"/>
          <p:cNvPicPr/>
          <p:nvPr/>
        </p:nvPicPr>
        <p:blipFill>
          <a:blip r:embed="rId1"/>
          <a:stretch/>
        </p:blipFill>
        <p:spPr>
          <a:xfrm>
            <a:off x="914400" y="914400"/>
            <a:ext cx="6934320" cy="52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DA50-9F38-4C11-A84B-FDB388DE80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2 Finanční závazky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762120"/>
          <a:ext cx="9144000" cy="551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3105C-5E07-45E7-8A40-923C327F5D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EC95C-F90D-4009-99B5-160DBED359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 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2. Říz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3. Přistoupení ČR k ESA - PECS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4. Členství ČR v ESA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inan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žň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 v ESA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Task Force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3 Výzva pro podávání návrhů projektových záměr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 Zapojení ČR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1 Časový horizont aktiv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2 Finanční závazky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7CA9-F58A-4971-8DC9-8ACD74CEC4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udržovat a rozvíjet evropské dopravní prostředky pro přístup do kosmu, zajišťovat širokou technologickou základnu a kapacitu evropského průmyslu, která dokáže navrhovat, vyrábět a provozovat kosmické systémy a doprovodnou pozemní infrastrukturu</a:t>
            </a:r>
            <a:r>
              <a:rPr b="0" lang="cs-CZ" sz="2000" spc="-1" strike="noStrike">
                <a:solidFill>
                  <a:srgbClr val="0e85c0"/>
                </a:solidFill>
                <a:latin typeface="Times New Roman"/>
              </a:rPr>
              <a:t>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koordinovat evropskou strategii a politiku pro kosmonautiku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rozšiřovat vědecké znalosti o naší planetě, sluneční soustavě a vesmíru stejně jako            o materiálech a živých organismech s využitím Mezinárodní kosmické stanice, družic  a meziplanetárních sond,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at získané technické dovednosti a poznatky k uspokojování stále náro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jších nároků spole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i a trhu.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6E3F1-FB2F-4F4C-BBB2-9F9BD4C161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Říz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inisterská rada ESA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jednou za tři roky (2008 Haag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Rady ESA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pr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yslovou politik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AF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administraci a financ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R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mezinárodní vztahy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bezp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30AF9-B2B9-4534-B93B-A60EE71B5C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ř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toupení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k ESA - PEC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skytnout za určitých podmínek i nečlenskému státu možnost připojit se ke stávajícím programům ESA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9,7 milionu Euro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 řešení 28 projektů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4635-CB33-4FEB-A2A9-D2B1E281A3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Členství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br>
              <a:rPr sz="3000"/>
            </a:b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1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an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žň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stupní poplatek ve výši 2,9 mil €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ovin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spívají všechny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k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kladní aktivity ES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olitel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dle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jmu k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o daný obor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ozorování země, telekomunikace …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návratnost: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84% pr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dk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lo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ných do povin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a 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94% z jednotlivých volitel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DA06-6C6B-47F0-800F-C469183011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2 Task Forc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Task Force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řídí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ání 45%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ského fina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ho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s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k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konkurenceschopnost průmyslu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olupodíl na 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ýzev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miná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 a workshop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lastní provozní rozp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et  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5C823-A0AD-4607-9D5F-DC57DE29EA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705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3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Výzva pro podávání návrhů projektových záměrů</a:t>
            </a:r>
            <a:r>
              <a:rPr b="0" lang="cs-CZ" sz="3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16. b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zna 2009 byla v systému EMITS zv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j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a Výzva pro podávání návrh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projektových zám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výzva je otevřena pouze do 15. května 2009, veškeré úspěšně schválené projekty jsou kompletně hrazen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va je vyhrazena pro: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tový hardwar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(1 000 000 Euro)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kumné a vývojov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(2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n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(1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470CA-A7A8-46FF-AD5E-3D5106D987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1T10:58:16Z</dcterms:modified>
  <cp:revision>30</cp:revision>
  <dc:subject/>
  <dc:title>Prezentace aplikace PowerPoint</dc:title>
</cp:coreProperties>
</file>