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482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8ECF6-FFFB-4C40-955A-4AF383E878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B00B0-91F6-4AA8-A4BF-341439BC9D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EC2DB-D7AA-4C5A-A62A-7D5993AF5F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AE2B6-5596-451D-AA14-3EEF581F48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CA5E6-E71E-4B2C-8901-DF5FBF0B96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A6A7A-3C7D-41E7-A87E-53D74FC9DD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F0DD1-4471-453A-B38F-14F98BF656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F49FE-AE1B-4F58-9704-58AA4D9E21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F4DD7-A31E-4D92-81E2-66434494AC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C871E-557C-4747-9928-5C0A50F19F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3AD35-7DBC-4681-87B8-5A444390F8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97A95-927D-4980-8811-6D99DE5E26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619440" y="6224760"/>
            <a:ext cx="190512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0e85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395B6-77CA-44D7-8A02-B0BAD117543F}" type="slidenum">
              <a:rPr b="1" lang="cs-CZ" sz="1400" spc="-1" strike="noStrike">
                <a:solidFill>
                  <a:srgbClr val="0e85c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400800" y="6248520"/>
            <a:ext cx="2590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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2009</a:t>
            </a: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Ministerstvo průmyslu a obchod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2877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e85c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457200" algn="ctr"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sedlak@mpo.cz" TargetMode="External"/><Relationship Id="rId2" Type="http://schemas.openxmlformats.org/officeDocument/2006/relationships/hyperlink" Target="http://www.mpo.cz/" TargetMode="External"/><Relationship Id="rId3" Type="http://schemas.openxmlformats.org/officeDocument/2006/relationships/hyperlink" Target="http://www.mpo.cz/" TargetMode="External"/><Relationship Id="rId4" Type="http://schemas.openxmlformats.org/officeDocument/2006/relationships/hyperlink" Target="http://www.mpo.cz/" TargetMode="External"/><Relationship Id="rId5" Type="http://schemas.openxmlformats.org/officeDocument/2006/relationships/hyperlink" Target="http://www.mpo.cz/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362320" y="2371680"/>
            <a:ext cx="43178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Zapojení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rok 2009 celková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částka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6 870 584 euro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povinné aktivit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Basic Activities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Scientific Programme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volitelné aktivit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GMES Space Component Segment 2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FLPP Period 2 Step 2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B98FE-B5F9-4BEA-B9EC-82B74C5979C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5.1 Časový horizont aktivit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90600" y="16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rogramy" descr="Volitelné programy"/>
          <p:cNvPicPr/>
          <p:nvPr/>
        </p:nvPicPr>
        <p:blipFill>
          <a:blip r:embed="rId1"/>
          <a:stretch/>
        </p:blipFill>
        <p:spPr>
          <a:xfrm>
            <a:off x="914400" y="914400"/>
            <a:ext cx="6934320" cy="5270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D7AFC-4B33-4FB4-A378-A78D34A64F9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5.2 Finanční závazky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0" y="762120"/>
          <a:ext cx="9144000" cy="551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914400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C100E-0482-4235-B8BE-D74BE5059E5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Závěr: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Prezentaci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ESA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vytvořil Bc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. Vladimír Sedlák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sedlak@mpo.cz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Tel: +420 224 852 59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Ministerstvo průmyslu a obchodu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Na Františku 32, Praha 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www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mpo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cz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CB399-31BC-4EC1-8AA7-DD180D24F2B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2666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ESA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4038480"/>
            <a:ext cx="5410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Arial"/>
              </a:rPr>
              <a:t>Bc. Vladimír Sedl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8480" y="5775840"/>
            <a:ext cx="4134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e85c0"/>
                </a:solidFill>
                <a:latin typeface="Arial"/>
              </a:rPr>
              <a:t>©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 2009 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  <a:ea typeface="SimSun"/>
              </a:rPr>
              <a:t>Minist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erstvo průmyslu a obcho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bsah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258920"/>
            <a:ext cx="853416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1. 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Hlavní poslání organizace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2. Řízení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3. Přistoupení ČR k ESA - PECS 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4. Členství ČR v ESA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4.1 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Finan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í poplatky umo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</a:rPr>
              <a:t>žň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ující 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lenství 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R v ESA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4.2 Task Force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4.3 Výzva pro podávání návrhů projektových záměrů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5. Zapojení ČR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5.1 Časový horizont aktivit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5.2 Finanční závazky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63D74-3244-4E76-9079-88A028121DB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.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lavní poslání organiz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udržovat a rozvíjet evropské dopravní prostředky pro přístup do kosmu, zajišťovat širokou technologickou základnu a kapacitu evropského průmyslu, která dokáže navrhovat, vyrábět a provozovat kosmické systémy a doprovodnou pozemní infrastrukturu</a:t>
            </a:r>
            <a:r>
              <a:rPr b="0" lang="cs-CZ" sz="2000" spc="-1" strike="noStrike">
                <a:solidFill>
                  <a:srgbClr val="0e85c0"/>
                </a:solidFill>
                <a:latin typeface="Times New Roman"/>
              </a:rPr>
              <a:t>,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koordinovat evropskou strategii a politiku pro kosmonautiku,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rozšiřovat vědecké znalosti o naší planetě, sluneční soustavě a vesmíru stejně jako            o materiálech a živých organismech s využitím Mezinárodní kosmické stanice, družic  a meziplanetárních sond, 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yu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ž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ívat získané technické dovednosti a poznatky k uspokojování stále náro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jších nároků spole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osti a trhu.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55279-1980-4E62-ACBF-F599A4423E6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2. Řízení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Ministerská rada ESA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jednou za tři roky (2008 Haag)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Rady ESA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IPC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– Výbor pro pr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ů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myslovou politiku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SPC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– Výbor pro v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decký progra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AFC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– Výbor pro administraci a finance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IRC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– Výbor pro mezinárodní vztahy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SEC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– Výbor pro bezpe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ost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B56C9-6E32-4F3F-BD31-9544335AEF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P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ř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stoupení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Č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 k ESA - PEC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poskytnout za určitých podmínek i nečlenskému státu možnost připojit se ke stávajícím programům ESA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9,7 milionu Euro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k řešení 28 projektů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E8951-9A7C-4FC7-B255-30A0F21752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Členství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Č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 v ESA</a:t>
            </a:r>
            <a:br>
              <a:rPr sz="3000"/>
            </a:b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4.1 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nan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č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í poplatky umo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žň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jící 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č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nství 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Č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 v ESA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stupní poplatek ve výši 2,9 mil €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povinné programy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p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ispívají všechny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lenské ze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ě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decký progra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základní aktivity ESA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olitelné programy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dle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zájmu ka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ž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dé ze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o daný obor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pozorování země, telekomunikace …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návratnost: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84% prost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dk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ů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vlo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ž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ných do povinných progra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ů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a a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ž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94% z jednotlivých volitelných progra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ů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C5B37-8151-460B-B468-0D78FD5D791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4.2 Task Force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Task Force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řídí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yu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ž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ívání 45%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ského finan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ího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p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ísp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ku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konkurenceschopnost průmyslu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spolupodíl na p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íprav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výzev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seminá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 a workshop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lastní provozní rozpo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čet  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3E9E8-9307-4435-BAF4-E8BC8E41F73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705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4.3 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Výzva pro podávání návrhů projektových záměrů</a:t>
            </a:r>
            <a:r>
              <a:rPr b="0" lang="cs-CZ" sz="30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br>
              <a:rPr sz="3000"/>
            </a:b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16. b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zna 2009 byla v systému EMITS zve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jn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a Výzva pro podávání návrh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ů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projektových zám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r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ů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výzva je otevřena pouze do 15. května 2009, veškeré úspěšně schválené projekty jsou kompletně hrazen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ýzva je vyhrazena pro: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letový hardware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(1 000 000 Euro)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ýzkumné a vývojové aktivity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(200 000 Euro)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p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ípravné aktivity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(100 000 Euro)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1BF47-7A06-48D8-B8CC-BD1B6E2683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08:56:03Z</dcterms:created>
  <dc:creator>Vladimír Sedlák</dc:creator>
  <dc:description/>
  <dc:language>en-US</dc:language>
  <cp:lastModifiedBy>Vladimír Sedlák </cp:lastModifiedBy>
  <cp:lastPrinted>2009-04-22T19:24:48Z</cp:lastPrinted>
  <dcterms:modified xsi:type="dcterms:W3CDTF">2009-04-21T10:58:16Z</dcterms:modified>
  <cp:revision>30</cp:revision>
  <dc:subject/>
  <dc:title>Prezentace aplikace PowerPoint</dc:title>
</cp:coreProperties>
</file>