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06B3-A419-408A-9BF0-46415AAF5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207E-E306-4107-B867-17A05C3D0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666A3-6010-4899-B07B-D895475F3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B50E-6F64-4140-8BA1-C2C49F94E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7E4AA-29E6-42FB-9E9C-04CD3674A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7E1C-9887-4AB0-A685-2E5801B49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10B5-4891-4E91-BB78-6BFF44EA4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BAD4-F405-472B-A3D0-378CBC64B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45B5-4219-48AF-9CCB-5EB2DB7B6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52503-9140-418E-B1C3-86809279A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920D-42C5-4565-A5D8-F9F9945A6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4EF5-78F0-4ACB-A04D-1A85345AD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997A-8292-4BD2-B32B-761D6D99CC86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MPO%20logo%20RGB200dpi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mailto:sedlak@mpo.cz" TargetMode="External"/><Relationship Id="rId3" Type="http://schemas.openxmlformats.org/officeDocument/2006/relationships/hyperlink" Target="mailto:sedlak@mpo.cz" TargetMode="External"/><Relationship Id="rId4" Type="http://schemas.openxmlformats.org/officeDocument/2006/relationships/hyperlink" Target="mailto:sedlak@mpo.cz" TargetMode="External"/><Relationship Id="rId5" Type="http://schemas.openxmlformats.org/officeDocument/2006/relationships/hyperlink" Target="mailto:sedlak@mpo.cz" TargetMode="External"/><Relationship Id="rId6" Type="http://schemas.openxmlformats.org/officeDocument/2006/relationships/hyperlink" Target="http://www.mpo.cz/" TargetMode="External"/><Relationship Id="rId7" Type="http://schemas.openxmlformats.org/officeDocument/2006/relationships/hyperlink" Target="http://www.mpo.cz/" TargetMode="External"/><Relationship Id="rId8" Type="http://schemas.openxmlformats.org/officeDocument/2006/relationships/hyperlink" Target="http://www.mpo.cz/" TargetMode="External"/><Relationship Id="rId9" Type="http://schemas.openxmlformats.org/officeDocument/2006/relationships/hyperlink" Target="http://www.mpo.cz/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mits.esa.int/emits/owa/emits.main" TargetMode="External"/><Relationship Id="rId2" Type="http://schemas.openxmlformats.org/officeDocument/2006/relationships/hyperlink" Target="http://www.esa.int/home-ind/" TargetMode="External"/><Relationship Id="rId3" Type="http://schemas.openxmlformats.org/officeDocument/2006/relationships/hyperlink" Target="mailto:idhelp@esa.int" TargetMode="External"/><Relationship Id="rId4" Type="http://schemas.openxmlformats.org/officeDocument/2006/relationships/hyperlink" Target="mailto:idhelp@esa.int" TargetMode="External"/><Relationship Id="rId5" Type="http://schemas.openxmlformats.org/officeDocument/2006/relationships/hyperlink" Target="mailto:idhelp@esa.in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mits.esa.int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PO%20logo%20RGB200dpi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yžadované informace jsou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děleny podle typu firmy: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Industrial Firm (průmyslová firma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ervice Firm (služb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Non-Profit Organisation (nezisková organiz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ther (dalš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lavní informace: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A, B a D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ntity Identification (Identifik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Executice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fficial Registration (Oficiální registr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generál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AT </a:t>
            </a:r>
            <a:r>
              <a:rPr b="1" lang="en-US" sz="16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 Social Security Numbers 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Financial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rganisation Chart (organizační tabulka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finanč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stablishments (ustanoven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pace Business Manager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manažer vesmírných obchodů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C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Institution / Dean (ředitel instituce / děkan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Administration (ředitel administr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Responsible for Space Activities (odpovědná osoba za vesmírné aktivit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241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4492" t="12367" r="17399" b="54567"/>
          <a:stretch/>
        </p:blipFill>
        <p:spPr>
          <a:xfrm>
            <a:off x="4343400" y="1066680"/>
            <a:ext cx="449568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2587-FF42-4F8E-AC47-68C2E45878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avidla pro všechny stejná v oblastech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ktivity / Projekty / Produkty a Servi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aff </a:t>
            </a:r>
            <a:r>
              <a:rPr b="1" lang="en-US" sz="18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Facilities (zařízení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ey Financial Figures (klíčová finanční tabulk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Ownership: (vlastnictví, pouze A,B a D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ructural Relations (struktur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Working Relations (pracov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rm Shareholder (akcionáři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ubsidiary (podpor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hievements: (pouze C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Activities (vesmírné aktivi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Projects (vesmírné projek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tivities not related to Space (aktivity bez zaměření na vesmír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7C43-57B1-4CD6-9E89-C2B9CB06BF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1 Tipy pro registraci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jprve si předčtěte dokumentaci na průmyslovém portál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vstupte do systému a uložte si PIN nebo ID/PW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uveďte typ organizace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likněte na “View All“ a vytiskněte si dotazní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volte si svého koordinátor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oordinujte interní dat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ačněte vyplňovat elektronický dotazník pouze pokud budete mít 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šechna data zkompletizován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dvakrát zkontrolujte místa označená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*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zapomeňte na pravidelné připojení (důležité k ověření platnosti)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buďte opatrní na informace, které obdržíte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BA986-A872-4894-A69F-9E61921BD0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2 Časté chyb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ředstava že aktualizace vaší práce je ztracena při pohledu do View módu: musíte přejít do Edit mód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yplnění pouze 2 ze 3 polí u kontaktů: musí být vyplněno country code (číslo státu), area code (číslo oblasti), number (vlastní číslo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“None“ nebo NA pokud je vyžadován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nebo nevložení funkce v kartě busines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2 dny před vypršením projekt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speciální registrace pro laboratoře, univerzity, úřad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50ED-9712-4336-AF0F-4ECA111912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jednoduchá procedura zavolat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ESA-Mr Verdin tel: +331 5369 7119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uvedení důležitých informací jako jméno, kontakt a emailové adresy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pro sublevels bude vytvořen kód ESABD pro doplnění dalších kontaktních informac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5D9B-892C-415C-A82E-D1BFA04561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1721" t="9376" r="21093" b="13540"/>
          <a:stretch/>
        </p:blipFill>
        <p:spPr>
          <a:xfrm>
            <a:off x="1752480" y="1447920"/>
            <a:ext cx="5715000" cy="48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0161-A85C-420C-AE9F-AFC1C50AF8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1721" t="12502" r="21876" b="21878"/>
          <a:stretch/>
        </p:blipFill>
        <p:spPr>
          <a:xfrm>
            <a:off x="1371600" y="1447920"/>
            <a:ext cx="64771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857A-2D3D-40ED-A206-D43FE91791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811" t="9376" r="25782" b="12502"/>
          <a:stretch/>
        </p:blipFill>
        <p:spPr>
          <a:xfrm>
            <a:off x="1752480" y="1447920"/>
            <a:ext cx="5410440" cy="47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BF30-3F2F-4D8E-A527-145AD34DEA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2500" t="10420" r="13282" b="17709"/>
          <a:stretch/>
        </p:blipFill>
        <p:spPr>
          <a:xfrm>
            <a:off x="990720" y="114300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BEEE8-E26E-4BDB-9F3F-B110A6BA3A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0938" t="11458" r="12500" b="21878"/>
          <a:stretch/>
        </p:blipFill>
        <p:spPr>
          <a:xfrm>
            <a:off x="685800" y="1219320"/>
            <a:ext cx="74674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22AD5-5CCD-4C97-9C63-040E77CA54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600"/>
            </a:b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MPO%20logo%20RGB200dpi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721" t="18753" r="11721" b="20835"/>
          <a:stretch/>
        </p:blipFill>
        <p:spPr>
          <a:xfrm>
            <a:off x="762120" y="1219320"/>
            <a:ext cx="746748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0119-FF84-4D76-B1DC-045EC6488E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8594" t="11458" r="10938" b="17709"/>
          <a:stretch/>
        </p:blipFill>
        <p:spPr>
          <a:xfrm>
            <a:off x="457200" y="1143000"/>
            <a:ext cx="78487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7803-8854-4809-8EA2-6EFD0820B5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9376" t="17709" r="9376" b="20835"/>
          <a:stretch/>
        </p:blipFill>
        <p:spPr>
          <a:xfrm>
            <a:off x="609480" y="1447920"/>
            <a:ext cx="792504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A018-FD97-4CB1-999C-BA9C3A783C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7811" t="28124" r="9376" b="25004"/>
          <a:stretch/>
        </p:blipFill>
        <p:spPr>
          <a:xfrm>
            <a:off x="457200" y="1828800"/>
            <a:ext cx="80773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AE2C-8885-4554-8A99-BFDFF1B446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3282" t="10420" r="13282" b="16666"/>
          <a:stretch/>
        </p:blipFill>
        <p:spPr>
          <a:xfrm>
            <a:off x="990720" y="1219320"/>
            <a:ext cx="662940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536D-4C03-4D12-87EF-8D1D1F3CED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ne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0155" t="10420" r="10938" b="18753"/>
          <a:stretch/>
        </p:blipFill>
        <p:spPr>
          <a:xfrm>
            <a:off x="609480" y="1066680"/>
            <a:ext cx="7696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A680-FB00-4BA1-8541-E25875ACD1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3808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594" t="9376" r="10155" b="20835"/>
          <a:stretch/>
        </p:blipFill>
        <p:spPr>
          <a:xfrm>
            <a:off x="533520" y="1143000"/>
            <a:ext cx="792468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C1FE-14D7-453C-9A71-6FD97ACFEFC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400"/>
            </a:b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   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3495-6A6C-42C7-810A-09320A72D4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Obsah: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oč se registrovat do EMITS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ontakt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lozofie registračního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de mohu začít?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1 Nový žadatel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2 Stávající uživatel 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3 Co je důležité na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4 Obsah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gistra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1 Tipy pro registraci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2 Časté chyb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3 Proces registrace neziskových organizací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jstřík registrací v ČR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říklady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A638-10DA-4C0C-9FE9-4E572F8B15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Proč se registrovat do EMITS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individuálního (ESABD) kódu nutného k identifikaci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přístupového jména a hesla k přístupu do ITT informačních balíčků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ravidelné informování o vypisovaných tendrech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ESABD důležité pro další kontrak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87D2-062C-4A6A-B498-7747046897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Kontak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dresa EMITS: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/emits/owa/emits.main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Detailní informace o registraci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esa.int/home-ind/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odpora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CPOs (procure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Deneuwelaere (RES-PGP)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73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Oppenheimer (RES-PG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40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Reynaud (RES-PG)Head/Office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7161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Finance (pay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fried Erker (RES-FEI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31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Industrial Polic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JL Verdin (RES-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1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ic Guilmet (RES-P)Head/division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34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chnická podpora: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idhelp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@esa.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int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90 6941 80444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dlak@mpo.cz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051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rcRect l="33618" t="13642" r="4964" b="73976"/>
          <a:stretch/>
        </p:blipFill>
        <p:spPr>
          <a:xfrm>
            <a:off x="4419720" y="1905120"/>
            <a:ext cx="353376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43A6-E5AF-4A27-BA47-01C0483C23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. Filozofie registračního systému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ficiální registrace: ESA chce mít informace o firmách zabývajících se kosmickým průmyslem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Hlavní informace: potřebné k ověření firem (nemusí docházet k opakovanému prověřování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Kontakty: Esa potřebuje kontakty na řídící orgány u firem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Aktivity: Esa nabízí příležitost registrovaným vytvořit si svou vlastní technologii a marketing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Role EMITS: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zlepšení kvality poskytovaných informa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update dotazník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chrana informací o zákazníkovi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4A580-E635-42B9-B2E7-DDEC4C377C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?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Nový žadatel: “Entity Registration“, obdržíte PIN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620120" cy="42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D838-DDB8-42F8-9DDB-14407CAB6E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Stávající uživatel: “LOGIN“ použijte uživatelské jméno a hesl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3389" t="10169" r="2543" b="24295"/>
          <a:stretch/>
        </p:blipFill>
        <p:spPr>
          <a:xfrm>
            <a:off x="304920" y="1676520"/>
            <a:ext cx="8229600" cy="43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F0CE-EEC9-4C07-A02E-9116BA3C00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3 Co je důležité na systému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umožní přistup k Legal Entitie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 sekci dotazníků je barevné značení a to od </a:t>
            </a:r>
            <a:r>
              <a:rPr b="1" lang="cs-CZ" sz="2400" spc="-1" strike="noStrike">
                <a:solidFill>
                  <a:srgbClr val="00e4a8"/>
                </a:solidFill>
                <a:latin typeface="Times New Roman"/>
              </a:rPr>
              <a:t>zelené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po </a:t>
            </a:r>
            <a:r>
              <a:rPr b="1" lang="cs-CZ" sz="2400" spc="-1" strike="noStrike">
                <a:solidFill>
                  <a:srgbClr val="ffcf01"/>
                </a:solidFill>
                <a:latin typeface="Times New Roman"/>
              </a:rPr>
              <a:t>žlut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až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červen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do 8 sek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mnoho polí je označeno červenou hvězdou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, tato pole je nutné vypln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! Důležité je ukládat veškeré změny před přechodem do hlavní obrazovky, ukládání může trvat delší dobu, vždy si uložená data zkontrolujte, jinak budou ztracena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57480" t="33086" r="13428" b="46186"/>
          <a:stretch/>
        </p:blipFill>
        <p:spPr>
          <a:xfrm>
            <a:off x="762120" y="3657600"/>
            <a:ext cx="2057400" cy="109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7175" t="35217" r="47850" b="45915"/>
          <a:stretch/>
        </p:blipFill>
        <p:spPr>
          <a:xfrm>
            <a:off x="3886200" y="3733920"/>
            <a:ext cx="335268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8099-7575-4E35-B006-3E01B8B44D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7:49:12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16T13:25:40Z</dcterms:modified>
  <cp:revision>25</cp:revision>
  <dc:subject/>
  <dc:title>Prezentace aplikace PowerPoint</dc:title>
</cp:coreProperties>
</file>