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6.wmf" ContentType="image/x-wmf"/>
  <Override PartName="/ppt/media/image11.png" ContentType="image/png"/>
  <Override PartName="/ppt/media/image19.jpeg" ContentType="image/jpeg"/>
  <Override PartName="/ppt/media/image12.jpeg" ContentType="image/jpeg"/>
  <Override PartName="/ppt/media/image5.wmf" ContentType="image/x-wmf"/>
  <Override PartName="/ppt/media/image25.png" ContentType="image/png"/>
  <Override PartName="/ppt/media/image21.png" ContentType="image/png"/>
  <Override PartName="/ppt/media/image3.wmf" ContentType="image/x-wmf"/>
  <Override PartName="/ppt/media/image4.png" ContentType="image/png"/>
  <Override PartName="/ppt/media/image20.png" ContentType="image/png"/>
  <Override PartName="/ppt/media/image2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.png" ContentType="image/png"/>
  <Override PartName="/ppt/media/image13.jpeg" ContentType="image/jpeg"/>
  <Override PartName="/ppt/media/image2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dt" idx="35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sldImg"/>
          </p:nvPr>
        </p:nvSpPr>
        <p:spPr>
          <a:xfrm>
            <a:off x="993600" y="769680"/>
            <a:ext cx="5112000" cy="383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ftr" idx="36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 type="sldNum" idx="37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5255-80C6-40BB-8782-69A4230D89ED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CDD3D-91CE-4E14-BB51-53434F491CEA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2000" cy="383364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09176-0DA6-4E8A-AB72-8104EEB5E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B8C84-596E-4D5A-98F5-EE2327EAF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F282A5-8768-4724-AD24-A847216B4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31F3C4-E722-406B-A80C-FDE448BED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AED7C8-DC3C-42B9-BFF7-97688755C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E6F39F-529A-4C7A-BFD0-EF6AF09F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9CA72B-6ADD-41BB-B4AC-8F6DAC60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E21831-94A7-4C02-89D0-71F489A2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891128-DBDF-49D4-A48F-CCBEB6FF6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846F77-42E7-4BC0-8F74-0A1E19EF9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E5EFF6-72AE-492B-9C7C-CE51A1C22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35D414-465C-4FC5-9A31-1089008D3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F2CDB-0D30-4BBB-A8F2-0825FBCB8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89B9AA-C267-4646-B7DB-53933FA37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9DC1A0-3A37-4E3C-879D-1F90B1B4E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5B85AF-22B5-4E74-8310-DF3BC81E4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D77332-2A49-45E5-95F2-830AA74EA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00903D-F09B-458C-94CD-238250C26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DCA84F-9E15-405E-AAB4-4FFD4C56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E7129A-B7E0-45B6-9E14-41A25499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DA22DF-5D6B-4823-BE42-BCCFB6B7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383BFA-E57E-4283-B182-0534E397A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657738-03D8-43A2-AB94-51ACD570A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24CC4-19FA-459B-B3A8-C9685F8AF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B91591-B92D-47EA-B6A4-A1FA701E6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9E5D7A-1DDB-4D44-8B6A-D5721DBA7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559C49-AA53-4B29-8D8F-287AEEEA2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185AB0-C764-474E-815C-4059B709E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48D933-8EA0-403F-92A1-618DC773E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218B32-4A6F-4229-A85C-329FE19E4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A39A00-1955-47FB-A46D-2F13E846C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BC6A17-488A-4C8F-8A92-15F46488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D4562F-EA61-4FA5-8364-C7E4E3F6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0AB8F7-B834-485F-8EE3-0488DF6F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6EF683-7884-4A13-9062-BA81A2073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907875-742A-4C5C-A0E7-C62F2F342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D22E55-8463-40A0-94E0-1E803EF45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5A02C3-674A-4628-AAAA-DE7183D7C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7A25B9-D392-4F47-B418-3A33CAD49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5F728B-497A-4E40-B9C1-96D6DDB5C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7D9420-C323-4D56-9FB5-F66E45BB4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30A57F-1DB5-4283-A73D-C95C1D300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8ACC46-3CFB-42FF-AA7C-48D02788D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1AAD0D-6914-4976-B090-FC9703FA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DED4DD-691D-4084-B4A2-BB2664E8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03D5D1-AA3A-4B4B-B5A8-ADDA3348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DEF6BE-0852-45B1-864E-2310C16B8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082704-59F6-4946-A567-B8373047E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39B6BF-9C5E-4250-B07D-837147312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D6342-2DC3-451C-A18E-AADB8433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DDCB8-9F34-4DCE-B86C-B4CEDBD63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1C265-A99B-4271-A663-2CBA5831A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494B6-0DF4-448F-94C6-FF0181D50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FD068-5862-40C0-BDE4-050973D94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E175A-B4B4-4B32-8889-89D2F875E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81384-55FA-4D5D-A4B4-6C61BB8B2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09CD7-6C75-4FB0-A398-7C5C28043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3BBBE-F75B-4285-903C-F82AB9EE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C6932-7208-4B38-A794-153BFDFF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AF70D-B7EF-4510-9853-48C7CD08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E1D1C-6DA8-4A44-BB74-F1AD0D4D7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702BA-D989-49E7-A9B6-B5DD0DD30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A59A3-FC2E-4771-A232-E3F4E78F9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CEB82-C7C3-4CCB-8FC5-9FBDAB2D4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CFE7C-F214-4D57-92BF-D53066C01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7864E-69A5-4BA2-8945-038384530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1D103-0C02-4C11-9F12-331B60154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9B63F-D170-4085-A2EF-CAF31DAD1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3DBC8-7284-41C3-9DB5-1BBE4356C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1DA10-0E2E-4635-A692-3CB0A6769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DE80B-D299-4D7D-898C-7CE288E6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123F3-CC22-4E81-A98C-A3F51D95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B66B7-0764-4C75-AB95-DC9A4728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27033-5A3E-43A2-B709-DDC3A7FEB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1BCC1-01BA-4F35-8437-4391F831C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D040B-E3B4-44DC-9C97-E3AD74F9B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AA243-DE61-4FC1-B662-323D8FB8E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F5071-B1F4-43C2-B913-1B89B2CA2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6B161-53B3-4C76-8C71-982B4842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45626-2DA3-40A3-9CE6-4604068DD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4776E-E405-4DE1-AE4F-668D9FCA0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F2298-9B56-4EC2-9A65-2EB76077D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FF966-4E6E-4BE2-8A96-15925A034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A0714-F8F0-433D-963B-75714894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73B91-BA70-44B4-9F98-48C98A14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8A677-8477-4410-8A28-029B2C55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AD263-E6A9-482E-A0AC-8FB53E025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802AF-FC42-4F65-9FA0-81EDD3404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CC680-A40F-4BB7-A264-5B0A888DF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CA846-54A8-4BC2-8607-284FF605E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5E281-7A46-41E0-80D4-5B917DF8C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602F0-FD25-40CA-824F-C46B75A6D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DB9FC-C863-4CB9-AE2A-086E82849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8DD3A-BA70-43CA-95AE-70C21345D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9B5CE-A29C-4A14-B687-C905C7163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6A1F1-8D38-48B7-BF4E-B017DC481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CDA24-AABB-48F5-BDB6-5A9D3AA7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DD9E7-A4F5-462B-890C-E9DE2BD5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58E9D-0C99-4FAF-9464-C30962EB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59F7E-0AB6-42E3-A4F7-154DAA14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0D24E-E595-4FD2-963B-6EDB320CD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DC2B5-17B3-4A4A-B82F-E33C6D79E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72704-5F6C-4894-BA4A-5EDD8BE16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F0858-57D8-42FC-B9BC-CC9A54B5F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25B27-50DC-419A-9835-3E72F062B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10315C-CEFD-4715-A06E-09F852504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BB088-DC36-4264-8AF6-B1278FE68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951B9-FCE4-4AB1-ADFA-E6571FDEB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EF596B-8E38-42DB-9EA7-899CD7D03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51210-54CC-4EFD-815E-63DB896B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06AD3-DCCB-4357-92EB-7D501A55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A5BB9-5F49-4021-B3CD-BCC24D35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6B89E-B701-42BE-BB2E-6B586B2D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F5384-57E9-4102-A201-52ABC46F4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64A45-86D1-4ED3-A8EF-B940E3FF9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0F681-E8C0-409E-BBFE-64FE4E0F3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69DC1-C54B-4113-BE13-F83DF7872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F64AF-6D2A-4993-A629-02A280787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83F81B-5CF0-4750-B6BB-854C6FAD0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49EC87-A526-46FC-9D9C-30F792A4A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14BCC-15E3-4FF8-BEA1-67CEA2659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1BA41-7D8F-44DF-B744-4138818F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7B5C4F-88DC-4227-966B-F320E4B76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EC2740-3C76-41CF-9B3B-5435F8F3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94323-7B3D-4679-9B4B-5B3A4DCB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92B0F7-95C9-4F05-81E7-9F4EC443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B3C375-E4E7-47F7-8568-C9002855B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46E9DD-38A6-4947-94D5-BABD903EC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3E5D0A-541E-427E-81F3-519A1BAF8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F41697-0417-49CC-A55E-B3A635CC4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5A766-699F-4ACE-A4CD-AA9E216E1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65831F-7A70-40AE-9364-7B59E1235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90346-9A2B-4410-A546-1F3862950992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7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9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31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432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433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34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435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dt" idx="26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sldNum" idx="27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F4ED7-6DE1-41D9-9940-D2488FC38499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ftr" idx="28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78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79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480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481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82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483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29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sldNum" idx="30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18A66-FCD3-463B-9A32-B94F8583646D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ftr" idx="31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27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528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529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30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531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dt" idx="32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sldNum" idx="33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C0A33-2800-4A8C-9446-9B66861773A0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ftr" idx="34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56600" cy="69022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4952880" y="685800"/>
            <a:ext cx="335304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České vysoké učení technické</a:t>
            </a:r>
            <a:endParaRPr b="0" lang="en-US" sz="1800" spc="-1" strike="noStrike">
              <a:solidFill>
                <a:srgbClr val="000000"/>
              </a:solidFill>
              <a:latin typeface="Arial C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 Praze</a:t>
            </a:r>
            <a:endParaRPr b="0" lang="en-US" sz="18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4"/>
          <a:stretch/>
        </p:blipFill>
        <p:spPr>
          <a:xfrm>
            <a:off x="8305920" y="722160"/>
            <a:ext cx="774720" cy="586080"/>
          </a:xfrm>
          <a:prstGeom prst="rect">
            <a:avLst/>
          </a:prstGeom>
          <a:ln w="0">
            <a:noFill/>
          </a:ln>
        </p:spPr>
      </p:pic>
      <p:sp>
        <p:nvSpPr>
          <p:cNvPr id="51" name="Line 8"/>
          <p:cNvSpPr/>
          <p:nvPr/>
        </p:nvSpPr>
        <p:spPr>
          <a:xfrm>
            <a:off x="4572000" y="685800"/>
            <a:ext cx="0" cy="624852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4876920" y="1693800"/>
            <a:ext cx="4267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831a4"/>
                </a:solidFill>
                <a:latin typeface="Arial"/>
              </a:rPr>
              <a:t>Fakulta dopravní  </a:t>
            </a: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4876920" y="2421000"/>
            <a:ext cx="42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831a4"/>
                </a:solidFill>
                <a:latin typeface="Arial"/>
              </a:rPr>
              <a:t>Ústav řídicí techniky a telematiky</a:t>
            </a:r>
            <a:r>
              <a:rPr b="1" lang="cs-CZ" sz="1800" spc="-1" strike="noStrike">
                <a:solidFill>
                  <a:srgbClr val="0831a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876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95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96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97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98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99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5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B8993-5F7B-4E0B-84DB-94EE89D5B418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7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43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144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145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46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8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9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EEA44-D44B-44C3-9F5E-BD1A77609BEF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ftr" idx="10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91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192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193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94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195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1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sldNum" idx="12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2355C-97E7-4CC9-A0EA-B0838B8ECF68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3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39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240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241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42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243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4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sldNum" idx="15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8F27C-0AD0-4D1D-B386-D537FAE16DE4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ftr" idx="16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87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288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289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90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291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7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sldNum" idx="18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BAF23-7954-4EB1-BA8A-BF7CF88A6299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ftr" idx="19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34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35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336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337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38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339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0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sldNum" idx="21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4549E-6788-4A13-9E7F-F211E01C7C72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ftr" idx="22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83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384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385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86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387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3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sldNum" idx="24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EB3AB-46A3-4497-A0FA-CF81B4C8DF78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ftr" idx="25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03640" y="3284640"/>
            <a:ext cx="3600720" cy="13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831a4"/>
                </a:solidFill>
                <a:latin typeface="Arial CE"/>
              </a:rPr>
              <a:t>Navigační a identifikační systé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TextovéPole 3"/>
          <p:cNvSpPr/>
          <p:nvPr/>
        </p:nvSpPr>
        <p:spPr>
          <a:xfrm>
            <a:off x="5000760" y="5214960"/>
            <a:ext cx="30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CE"/>
              </a:rPr>
              <a:t>Petr Bureš</a:t>
            </a:r>
            <a:endParaRPr b="0" lang="en-US" sz="2800" spc="-1" strike="noStrike">
              <a:solidFill>
                <a:srgbClr val="000000"/>
              </a:solidFill>
              <a:latin typeface="Arial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NSS - Satelitní systémy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/5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v oblasti přepravy nebezpečných náklad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rganizace, sledování, plánování a záchranné práce, propojení na další informační systé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30" name="Picture 3" descr="naklady5%20copy3"/>
          <p:cNvPicPr/>
          <p:nvPr/>
        </p:nvPicPr>
        <p:blipFill>
          <a:blip r:embed="rId1"/>
          <a:stretch/>
        </p:blipFill>
        <p:spPr>
          <a:xfrm>
            <a:off x="5429160" y="3857760"/>
            <a:ext cx="3375000" cy="2028600"/>
          </a:xfrm>
          <a:prstGeom prst="rect">
            <a:avLst/>
          </a:prstGeom>
          <a:ln w="0">
            <a:noFill/>
          </a:ln>
        </p:spPr>
      </p:pic>
      <p:sp>
        <p:nvSpPr>
          <p:cNvPr id="631" name="Text Box 9"/>
          <p:cNvSpPr/>
          <p:nvPr/>
        </p:nvSpPr>
        <p:spPr>
          <a:xfrm>
            <a:off x="3643200" y="3681360"/>
            <a:ext cx="3873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32" name="Picture 10" descr="IMG_0513"/>
          <p:cNvPicPr/>
          <p:nvPr/>
        </p:nvPicPr>
        <p:blipFill>
          <a:blip r:embed="rId2"/>
          <a:stretch/>
        </p:blipFill>
        <p:spPr>
          <a:xfrm>
            <a:off x="1785960" y="3500280"/>
            <a:ext cx="3267000" cy="243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3" name="Object 6"/>
          <p:cNvGraphicFramePr/>
          <p:nvPr/>
        </p:nvGraphicFramePr>
        <p:xfrm>
          <a:off x="4786200" y="4429080"/>
          <a:ext cx="1047960" cy="106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6200" y="4429080"/>
                    <a:ext cx="104796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NSS - Satelitní systémy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/5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v oblasti sledování a řízení pohybu prostřednictvím GN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W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edován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hybu po letištní ploše, propojení s řídícím centrem, výběr komunikačního prostředí, zabezpečení, testování,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38" name="Picture 2" descr="image010"/>
          <p:cNvPicPr/>
          <p:nvPr/>
        </p:nvPicPr>
        <p:blipFill>
          <a:blip r:embed="rId1"/>
          <a:stretch/>
        </p:blipFill>
        <p:spPr>
          <a:xfrm>
            <a:off x="1857240" y="3929040"/>
            <a:ext cx="3159360" cy="214308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3" descr=""/>
          <p:cNvPicPr/>
          <p:nvPr/>
        </p:nvPicPr>
        <p:blipFill>
          <a:blip r:embed="rId2"/>
          <a:stretch/>
        </p:blipFill>
        <p:spPr>
          <a:xfrm>
            <a:off x="5715000" y="3857760"/>
            <a:ext cx="17146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Zástupný symbol pro zápatí 5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bsah Prezent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2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pojení ústavu 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ystémy dynamické navigac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atelitní systémy elektronického mýtného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ystémy pro sledování přepravy nebezpečných náklad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p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ákladní informace o projekte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stav se podílí na projektech v rámci laboratoře e-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udentské projek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1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 tematicky zaměřené projekty (navigace, dopravní informace a identifikac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zkumné projek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1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 projekty VaV MD ČR (dopravní informace, monitorování D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1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 projekty TP MPO ČR (identifikace, telematická jednot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TI - Dopravní informace (1/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popisu dopravních inform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ormáty a struktura protokolů DATEX2, TMC, TPEG, at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591" name="Picture 2" descr=""/>
          <p:cNvPicPr/>
          <p:nvPr/>
        </p:nvPicPr>
        <p:blipFill>
          <a:blip r:embed="rId1"/>
          <a:stretch/>
        </p:blipFill>
        <p:spPr>
          <a:xfrm>
            <a:off x="5613480" y="2786040"/>
            <a:ext cx="3530520" cy="2104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92" name="Picture 2" descr="bla2"/>
          <p:cNvPicPr/>
          <p:nvPr/>
        </p:nvPicPr>
        <p:blipFill>
          <a:blip r:embed="rId2"/>
          <a:stretch/>
        </p:blipFill>
        <p:spPr>
          <a:xfrm>
            <a:off x="4500720" y="4071960"/>
            <a:ext cx="2207880" cy="21225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93" name="Picture 8" descr="tmcmsg.jpg"/>
          <p:cNvPicPr/>
          <p:nvPr/>
        </p:nvPicPr>
        <p:blipFill>
          <a:blip r:embed="rId3"/>
          <a:stretch/>
        </p:blipFill>
        <p:spPr>
          <a:xfrm>
            <a:off x="1500120" y="2786040"/>
            <a:ext cx="3500640" cy="26305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1428480" y="857160"/>
            <a:ext cx="739116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v oblasti lokalizace dopravních informac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tický, dynamický popis 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azba DI do mapového podkl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TI - Dopravní informace (2/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6" name="Picture 9" descr="lt_stn_link"/>
          <p:cNvPicPr/>
          <p:nvPr/>
        </p:nvPicPr>
        <p:blipFill>
          <a:blip r:embed="rId1"/>
          <a:stretch/>
        </p:blipFill>
        <p:spPr>
          <a:xfrm>
            <a:off x="1643040" y="3286080"/>
            <a:ext cx="3643200" cy="25876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597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598" name="Picture 10" descr=""/>
          <p:cNvPicPr/>
          <p:nvPr/>
        </p:nvPicPr>
        <p:blipFill>
          <a:blip r:embed="rId2"/>
          <a:stretch/>
        </p:blipFill>
        <p:spPr>
          <a:xfrm>
            <a:off x="3786120" y="3214800"/>
            <a:ext cx="4098960" cy="2746440"/>
          </a:xfrm>
          <a:prstGeom prst="rect">
            <a:avLst/>
          </a:prstGeom>
          <a:ln w="0">
            <a:noFill/>
          </a:ln>
        </p:spPr>
      </p:pic>
      <p:grpSp>
        <p:nvGrpSpPr>
          <p:cNvPr id="599" name="Skupina 17"/>
          <p:cNvGrpSpPr/>
          <p:nvPr/>
        </p:nvGrpSpPr>
        <p:grpSpPr>
          <a:xfrm>
            <a:off x="3786120" y="3214800"/>
            <a:ext cx="4006800" cy="2738160"/>
            <a:chOff x="3786120" y="3214800"/>
            <a:chExt cx="4006800" cy="2738160"/>
          </a:xfrm>
        </p:grpSpPr>
        <p:sp>
          <p:nvSpPr>
            <p:cNvPr id="600" name="Obdélník 11"/>
            <p:cNvSpPr/>
            <p:nvPr/>
          </p:nvSpPr>
          <p:spPr>
            <a:xfrm>
              <a:off x="3917880" y="4751280"/>
              <a:ext cx="3583080" cy="1035000"/>
            </a:xfrm>
            <a:prstGeom prst="rect">
              <a:avLst/>
            </a:prstGeom>
            <a:noFill/>
            <a:ln w="25560">
              <a:solidFill>
                <a:srgbClr val="c9dd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grpSp>
          <p:nvGrpSpPr>
            <p:cNvPr id="601" name="Skupina 17"/>
            <p:cNvGrpSpPr/>
            <p:nvPr/>
          </p:nvGrpSpPr>
          <p:grpSpPr>
            <a:xfrm>
              <a:off x="3786120" y="3214800"/>
              <a:ext cx="4006800" cy="2738160"/>
              <a:chOff x="3786120" y="3214800"/>
              <a:chExt cx="4006800" cy="2738160"/>
            </a:xfrm>
          </p:grpSpPr>
          <p:sp>
            <p:nvSpPr>
              <p:cNvPr id="602" name="Obdélník 12"/>
              <p:cNvSpPr/>
              <p:nvPr/>
            </p:nvSpPr>
            <p:spPr>
              <a:xfrm>
                <a:off x="3786120" y="3214800"/>
                <a:ext cx="4006800" cy="1531440"/>
              </a:xfrm>
              <a:prstGeom prst="rect">
                <a:avLst/>
              </a:prstGeom>
              <a:solidFill>
                <a:srgbClr val="cec8b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831a4"/>
                  </a:buClr>
                  <a:buSzPct val="85000"/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603" name="Obdélník 14"/>
              <p:cNvSpPr/>
              <p:nvPr/>
            </p:nvSpPr>
            <p:spPr>
              <a:xfrm>
                <a:off x="3786120" y="4746240"/>
                <a:ext cx="136800" cy="1034280"/>
              </a:xfrm>
              <a:prstGeom prst="rect">
                <a:avLst/>
              </a:prstGeom>
              <a:solidFill>
                <a:srgbClr val="cec8b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831a4"/>
                  </a:buClr>
                  <a:buSzPct val="85000"/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604" name="Obdélník 15"/>
              <p:cNvSpPr/>
              <p:nvPr/>
            </p:nvSpPr>
            <p:spPr>
              <a:xfrm>
                <a:off x="3786120" y="5779800"/>
                <a:ext cx="4006800" cy="173160"/>
              </a:xfrm>
              <a:prstGeom prst="rect">
                <a:avLst/>
              </a:prstGeom>
              <a:solidFill>
                <a:srgbClr val="cec8b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831a4"/>
                  </a:buClr>
                  <a:buSzPct val="85000"/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605" name="Obdélník 16"/>
              <p:cNvSpPr/>
              <p:nvPr/>
            </p:nvSpPr>
            <p:spPr>
              <a:xfrm>
                <a:off x="7512480" y="4746240"/>
                <a:ext cx="277200" cy="1034280"/>
              </a:xfrm>
              <a:prstGeom prst="rect">
                <a:avLst/>
              </a:prstGeom>
              <a:solidFill>
                <a:srgbClr val="cec8b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831a4"/>
                  </a:buClr>
                  <a:buSzPct val="85000"/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</p:grpSp>
      </p:grpSp>
      <p:pic>
        <p:nvPicPr>
          <p:cNvPr id="606" name="Picture 2" descr="aplagora"/>
          <p:cNvPicPr/>
          <p:nvPr/>
        </p:nvPicPr>
        <p:blipFill>
          <a:blip r:embed="rId3"/>
          <a:stretch/>
        </p:blipFill>
        <p:spPr>
          <a:xfrm>
            <a:off x="6072120" y="3429000"/>
            <a:ext cx="2836800" cy="23385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TI - Dopravní informace (3/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v oblasti vysílání, příjmu a vizualizace dopravních inform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stování přenosových prostřed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stování funkčnosti navig. přístroj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10" name="Obrázek 9" descr="p118_Mio.jpg"/>
          <p:cNvPicPr/>
          <p:nvPr/>
        </p:nvPicPr>
        <p:blipFill>
          <a:blip r:embed="rId1"/>
          <a:stretch/>
        </p:blipFill>
        <p:spPr>
          <a:xfrm>
            <a:off x="5357880" y="4143240"/>
            <a:ext cx="3565440" cy="19908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11" name="Picture 2" descr="P1370210"/>
          <p:cNvPicPr/>
          <p:nvPr/>
        </p:nvPicPr>
        <p:blipFill>
          <a:blip r:embed="rId2"/>
          <a:stretch/>
        </p:blipFill>
        <p:spPr>
          <a:xfrm>
            <a:off x="1428840" y="3714840"/>
            <a:ext cx="3692520" cy="2401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12" name="Picture 3" descr=""/>
          <p:cNvPicPr/>
          <p:nvPr/>
        </p:nvPicPr>
        <p:blipFill>
          <a:blip r:embed="rId3"/>
          <a:srcRect l="0" t="16339" r="0" b="13465"/>
          <a:stretch/>
        </p:blipFill>
        <p:spPr>
          <a:xfrm>
            <a:off x="3714840" y="3214800"/>
            <a:ext cx="3200400" cy="16840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NSS - Satelitní systémy (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5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identifikačních technologi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středky identifik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vorba a zabezpečení identifikáto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efinice telematických aplik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1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FC, EL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RI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16" name="Picture 5" descr=""/>
          <p:cNvPicPr/>
          <p:nvPr/>
        </p:nvPicPr>
        <p:blipFill>
          <a:blip r:embed="rId1"/>
          <a:stretch/>
        </p:blipFill>
        <p:spPr>
          <a:xfrm>
            <a:off x="5857920" y="3857760"/>
            <a:ext cx="2552760" cy="203832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6" descr=""/>
          <p:cNvPicPr/>
          <p:nvPr/>
        </p:nvPicPr>
        <p:blipFill>
          <a:blip r:embed="rId2"/>
          <a:stretch/>
        </p:blipFill>
        <p:spPr>
          <a:xfrm>
            <a:off x="2071800" y="3929040"/>
            <a:ext cx="342900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NSS - Satelitní systémy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/5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v oblasti architektury systému mýtné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tický, satelitní systém, hybridní systé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efinice hybridního systému v Č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vorba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zinárodních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orem (C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21" name="Picture 5" descr="PC130011"/>
          <p:cNvPicPr/>
          <p:nvPr/>
        </p:nvPicPr>
        <p:blipFill>
          <a:blip r:embed="rId1"/>
          <a:stretch/>
        </p:blipFill>
        <p:spPr>
          <a:xfrm>
            <a:off x="4786200" y="3643200"/>
            <a:ext cx="3929040" cy="24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NSS - Satelitní systémy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/5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voj universální telematické jednot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efinice funkcí, rozhraní a přenosových prostřed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voj prototy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25" name="Picture 5" descr="architecture"/>
          <p:cNvPicPr/>
          <p:nvPr/>
        </p:nvPicPr>
        <p:blipFill>
          <a:blip r:embed="rId1"/>
          <a:stretch/>
        </p:blipFill>
        <p:spPr>
          <a:xfrm>
            <a:off x="4714920" y="3857760"/>
            <a:ext cx="4178160" cy="182376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9" descr=""/>
          <p:cNvPicPr/>
          <p:nvPr/>
        </p:nvPicPr>
        <p:blipFill>
          <a:blip r:embed="rId2"/>
          <a:stretch/>
        </p:blipFill>
        <p:spPr>
          <a:xfrm>
            <a:off x="1571760" y="4429080"/>
            <a:ext cx="2928960" cy="13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9T01:12:06Z</dcterms:created>
  <dc:creator>jakub</dc:creator>
  <dc:description/>
  <dc:language>en-US</dc:language>
  <cp:lastModifiedBy>Pavel Hrubeš</cp:lastModifiedBy>
  <dcterms:modified xsi:type="dcterms:W3CDTF">2009-05-13T07:50:00Z</dcterms:modified>
  <cp:revision>136</cp:revision>
  <dc:subject/>
  <dc:title>Work Package 6</dc:title>
</cp:coreProperties>
</file>