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E7474-81FA-4967-BE21-AB74A4585987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97329-23BE-45BF-AD19-B3C08922F241}" type="slidenum">
              <a:rPr b="1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B7F7-119D-404B-A2BB-8372C68E5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D765-A8C3-4321-9D06-E866C42DE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C80E-6B3D-4E95-AA47-9EC91C9EF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9BD1-FF65-4CAD-8D14-2B7B9F3C0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53C7-4F6C-417A-8473-A5A5EC268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294A-CFD5-4D1C-A774-87BDA38D0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1EE4-61E0-485E-806E-39817E0C3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0434-0C0B-4A87-A141-9B57247A5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FBC9-0208-47AF-AA62-4A0E6D897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54A4-D42E-4657-B25E-09F28494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9269-E235-43D8-9F70-B335ED59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BF02-D0BD-4D2C-A1EC-B710641A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3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40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České vysoké učení technické v Praze - Fakulta dopravní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39692-E0C7-4A59-A5E0-DBA9C99595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36" descr=""/>
          <p:cNvPicPr/>
          <p:nvPr/>
        </p:nvPicPr>
        <p:blipFill>
          <a:blip r:embed="rId3"/>
          <a:stretch/>
        </p:blipFill>
        <p:spPr>
          <a:xfrm>
            <a:off x="7543800" y="6381720"/>
            <a:ext cx="533520" cy="405000"/>
          </a:xfrm>
          <a:prstGeom prst="rect">
            <a:avLst/>
          </a:prstGeom>
          <a:ln w="0">
            <a:noFill/>
          </a:ln>
        </p:spPr>
      </p:pic>
      <p:sp>
        <p:nvSpPr>
          <p:cNvPr id="8" name="Line 45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Picture 49" descr="obr3a_hhh"/>
          <p:cNvPicPr/>
          <p:nvPr/>
        </p:nvPicPr>
        <p:blipFill>
          <a:blip r:embed="rId4"/>
          <a:srcRect l="15230" t="4755" r="69543" b="0"/>
          <a:stretch/>
        </p:blipFill>
        <p:spPr>
          <a:xfrm>
            <a:off x="0" y="0"/>
            <a:ext cx="1295280" cy="6324480"/>
          </a:xfrm>
          <a:prstGeom prst="rect">
            <a:avLst/>
          </a:prstGeom>
          <a:ln w="0">
            <a:noFill/>
          </a:ln>
        </p:spPr>
      </p:pic>
      <p:sp>
        <p:nvSpPr>
          <p:cNvPr id="10" name="Line 51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Line 29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9" descr="obr3a_hhh"/>
          <p:cNvPicPr/>
          <p:nvPr/>
        </p:nvPicPr>
        <p:blipFill>
          <a:blip r:embed="rId3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1"/>
          <p:cNvSpPr/>
          <p:nvPr/>
        </p:nvSpPr>
        <p:spPr>
          <a:xfrm>
            <a:off x="4952880" y="68580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České vysoké učení technické v Praz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3"/>
          <p:cNvSpPr/>
          <p:nvPr/>
        </p:nvSpPr>
        <p:spPr>
          <a:xfrm>
            <a:off x="4876920" y="1828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a3d7a"/>
                </a:solidFill>
                <a:latin typeface="Arial"/>
              </a:rPr>
              <a:t>Fakulta dopravní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4"/>
          <p:cNvSpPr/>
          <p:nvPr/>
        </p:nvSpPr>
        <p:spPr>
          <a:xfrm>
            <a:off x="4876920" y="22096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a3d7a"/>
                </a:solidFill>
                <a:latin typeface="Arial"/>
              </a:rPr>
              <a:t>Ústav řídicí techniky a telematiky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38" descr=""/>
          <p:cNvPicPr/>
          <p:nvPr/>
        </p:nvPicPr>
        <p:blipFill>
          <a:blip r:embed="rId4"/>
          <a:stretch/>
        </p:blipFill>
        <p:spPr>
          <a:xfrm>
            <a:off x="8305920" y="722160"/>
            <a:ext cx="761760" cy="573120"/>
          </a:xfrm>
          <a:prstGeom prst="rect">
            <a:avLst/>
          </a:prstGeom>
          <a:ln w="0">
            <a:noFill/>
          </a:ln>
        </p:spPr>
      </p:pic>
      <p:sp>
        <p:nvSpPr>
          <p:cNvPr id="53" name="Line 46"/>
          <p:cNvSpPr/>
          <p:nvPr/>
        </p:nvSpPr>
        <p:spPr>
          <a:xfrm>
            <a:off x="4572000" y="685800"/>
            <a:ext cx="0" cy="624852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876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76560" y="3809880"/>
            <a:ext cx="4267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a3d7a"/>
                </a:solidFill>
                <a:latin typeface="Arial"/>
              </a:rPr>
              <a:t>Telematické aplik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876560" y="5333760"/>
            <a:ext cx="4267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a3d7a"/>
                </a:solidFill>
                <a:latin typeface="Arial"/>
              </a:rPr>
              <a:t>Ing. Zuzana Bělin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ystémové parame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357200" y="1143000"/>
          <a:ext cx="7696440" cy="3986280"/>
        </p:xfrm>
        <a:graphic>
          <a:graphicData uri="http://schemas.openxmlformats.org/drawingml/2006/table">
            <a:tbl>
              <a:tblPr/>
              <a:tblGrid>
                <a:gridCol w="1668600"/>
                <a:gridCol w="1508040"/>
                <a:gridCol w="1509840"/>
                <a:gridCol w="1503360"/>
                <a:gridCol w="1506600"/>
              </a:tblGrid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Parametr/Grafikon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Komerční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Intervalový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Taktový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Integrální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Přesnost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5m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0m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0m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m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Spolehlivost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5%/1rok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5%/1rok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9%/1rok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9%/1rok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Dostupnost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5%/1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5%/1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9%/1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9%/1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Kontinuit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5s/1 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5s/1 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5s/1 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2s/1 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Integrit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0s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0s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5s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2s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Bezpečnost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tandardizační proces 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" name="Object 2"/>
          <p:cNvGraphicFramePr/>
          <p:nvPr/>
        </p:nvGraphicFramePr>
        <p:xfrm>
          <a:off x="1488960" y="928800"/>
          <a:ext cx="7497720" cy="52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8960" y="928800"/>
                    <a:ext cx="7497720" cy="52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lexní analýza prostřed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vrhy systémových mode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chválená národní metodika tvorby  architektury dopravní telemati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 a legislativa rozvo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dnotná informační bá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ystémové param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konom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DŮRAZ NA SYSTÉMOVÝ PŘÍSTUP ŘEŠENÍ V APLIKACI DOPRAVNÍ TELEMATI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3" descr="praceuPC"/>
          <p:cNvPicPr/>
          <p:nvPr/>
        </p:nvPicPr>
        <p:blipFill>
          <a:blip r:embed="rId1"/>
          <a:stretch/>
        </p:blipFill>
        <p:spPr>
          <a:xfrm>
            <a:off x="5929200" y="4152960"/>
            <a:ext cx="3214800" cy="21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udie, analýzy a rešerše aktuálního stavu poznání v ČR a zahranič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radenstv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ystémový návrh architekt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vrh procesních mode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vrh datových modelů, rozhra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efinice telemati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357200" y="819000"/>
            <a:ext cx="73915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ac164"/>
                </a:solidFill>
                <a:latin typeface="Arial"/>
              </a:rPr>
              <a:t>Telematik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 systémově inženýrský obor, zabývající se tvorbou a účelným využitím informačního prostředí pro homeostatické procesy (kompenzace rušivých vlivů pro zachování silných procesů dle definovaných kritérií, např. komfort, ekonomika, atd.) územních celků až po globální síťová odvětv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Zástupný symbol pro zápatí 5"/>
          <p:cNvSpPr/>
          <p:nvPr/>
        </p:nvSpPr>
        <p:spPr>
          <a:xfrm>
            <a:off x="1547640" y="6408720"/>
            <a:ext cx="662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Inteligentní dopravní systémy – Dopravní telematika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Zástupný symbol pro číslo snímku 6"/>
          <p:cNvSpPr/>
          <p:nvPr/>
        </p:nvSpPr>
        <p:spPr>
          <a:xfrm>
            <a:off x="8342280" y="6481800"/>
            <a:ext cx="801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97F70-B5FD-46C8-915E-6F5B2890037F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1405080" y="2205000"/>
            <a:ext cx="7667640" cy="4103640"/>
          </a:xfrm>
          <a:prstGeom prst="rect">
            <a:avLst/>
          </a:prstGeom>
          <a:solidFill>
            <a:srgbClr val="00000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3726000" y="4292640"/>
            <a:ext cx="3024000" cy="2136600"/>
          </a:xfrm>
          <a:prstGeom prst="rect">
            <a:avLst/>
          </a:prstGeom>
          <a:solidFill>
            <a:srgbClr val="61cf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4702320" y="3213000"/>
            <a:ext cx="1081080" cy="1079640"/>
            <a:chOff x="4702320" y="3213000"/>
            <a:chExt cx="1081080" cy="1079640"/>
          </a:xfrm>
        </p:grpSpPr>
        <p:sp>
          <p:nvSpPr>
            <p:cNvPr id="113" name="Line 5"/>
            <p:cNvSpPr/>
            <p:nvPr/>
          </p:nvSpPr>
          <p:spPr>
            <a:xfrm>
              <a:off x="4702320" y="3213000"/>
              <a:ext cx="1081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6"/>
            <p:cNvSpPr/>
            <p:nvPr/>
          </p:nvSpPr>
          <p:spPr>
            <a:xfrm>
              <a:off x="5221440" y="3213000"/>
              <a:ext cx="0" cy="1079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Rectangle 9"/>
          <p:cNvSpPr/>
          <p:nvPr/>
        </p:nvSpPr>
        <p:spPr>
          <a:xfrm>
            <a:off x="1822320" y="2565360"/>
            <a:ext cx="2880000" cy="1468440"/>
          </a:xfrm>
          <a:prstGeom prst="rect">
            <a:avLst/>
          </a:prstGeom>
          <a:solidFill>
            <a:srgbClr val="ff0f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1714680" y="2508120"/>
            <a:ext cx="316368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TELEKOMUNIKA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telekomunikační sítě a protokol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inteligentní telekomunikační prostředí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multifunkční telekomunikační sítě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5767560" y="2565360"/>
            <a:ext cx="2879640" cy="1468440"/>
          </a:xfrm>
          <a:prstGeom prst="rect">
            <a:avLst/>
          </a:prstGeom>
          <a:solidFill>
            <a:srgbClr val="fd92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12"/>
          <p:cNvSpPr/>
          <p:nvPr/>
        </p:nvSpPr>
        <p:spPr>
          <a:xfrm>
            <a:off x="5710320" y="2508120"/>
            <a:ext cx="302400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INFORMATIK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oftwarové inženýrství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databázové systémy a technologi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zpracování da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optimalizace datových toků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3683160" y="4292640"/>
            <a:ext cx="3095640" cy="21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TELEMATIK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distribuované databáz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redukce informací, znalostní společnos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telematické služby a protokol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řízení sítě a telematických služeb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organizace, architektura, číselní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2" descr="colsys_Stránka_2"/>
          <p:cNvPicPr/>
          <p:nvPr/>
        </p:nvPicPr>
        <p:blipFill>
          <a:blip r:embed="rId1"/>
          <a:stretch/>
        </p:blipFill>
        <p:spPr>
          <a:xfrm>
            <a:off x="1447920" y="1457280"/>
            <a:ext cx="73911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Analýzy reálných řeš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ložení ná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6" name="Skupina 34"/>
          <p:cNvGrpSpPr/>
          <p:nvPr/>
        </p:nvGrpSpPr>
        <p:grpSpPr>
          <a:xfrm>
            <a:off x="1285920" y="2000160"/>
            <a:ext cx="7779960" cy="3331080"/>
            <a:chOff x="1285920" y="2000160"/>
            <a:chExt cx="7779960" cy="3331080"/>
          </a:xfrm>
        </p:grpSpPr>
        <p:graphicFrame>
          <p:nvGraphicFramePr>
            <p:cNvPr id="127" name="Object 2"/>
            <p:cNvGraphicFramePr/>
            <p:nvPr/>
          </p:nvGraphicFramePr>
          <p:xfrm>
            <a:off x="1450440" y="2182680"/>
            <a:ext cx="4356360" cy="27381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8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50440" y="2182680"/>
                      <a:ext cx="4356360" cy="273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9" name="Text Box 7"/>
            <p:cNvSpPr/>
            <p:nvPr/>
          </p:nvSpPr>
          <p:spPr>
            <a:xfrm>
              <a:off x="1591200" y="2061000"/>
              <a:ext cx="287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831a4"/>
                  </a:solidFill>
                  <a:latin typeface="Tahoma"/>
                </a:rPr>
                <a:t>Nesystémový přístup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Text Box 8"/>
            <p:cNvSpPr/>
            <p:nvPr/>
          </p:nvSpPr>
          <p:spPr>
            <a:xfrm>
              <a:off x="5946480" y="2000160"/>
              <a:ext cx="253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831a4"/>
                  </a:solidFill>
                  <a:latin typeface="Tahoma"/>
                </a:rPr>
                <a:t>Systémový přístup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31" name="Object 3"/>
            <p:cNvGraphicFramePr/>
            <p:nvPr/>
          </p:nvGraphicFramePr>
          <p:xfrm>
            <a:off x="5522760" y="2547720"/>
            <a:ext cx="3473640" cy="238392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32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522760" y="2547720"/>
                      <a:ext cx="3473640" cy="238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3" name="Text Box 11"/>
            <p:cNvSpPr/>
            <p:nvPr/>
          </p:nvSpPr>
          <p:spPr>
            <a:xfrm>
              <a:off x="5706360" y="4317840"/>
              <a:ext cx="1354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Zpracování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64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Text Box 12"/>
            <p:cNvSpPr/>
            <p:nvPr/>
          </p:nvSpPr>
          <p:spPr>
            <a:xfrm>
              <a:off x="7850520" y="4135320"/>
              <a:ext cx="1215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Přenos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20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Text Box 13"/>
            <p:cNvSpPr/>
            <p:nvPr/>
          </p:nvSpPr>
          <p:spPr>
            <a:xfrm>
              <a:off x="7850520" y="2601720"/>
              <a:ext cx="1215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Sběr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16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Text Box 15"/>
            <p:cNvSpPr/>
            <p:nvPr/>
          </p:nvSpPr>
          <p:spPr>
            <a:xfrm>
              <a:off x="1667160" y="4507200"/>
              <a:ext cx="1354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Zpracování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36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Text Box 16"/>
            <p:cNvSpPr/>
            <p:nvPr/>
          </p:nvSpPr>
          <p:spPr>
            <a:xfrm>
              <a:off x="4070520" y="2428560"/>
              <a:ext cx="1215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Přenos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49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Text Box 17"/>
            <p:cNvSpPr/>
            <p:nvPr/>
          </p:nvSpPr>
          <p:spPr>
            <a:xfrm>
              <a:off x="1285920" y="2787120"/>
              <a:ext cx="1215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Sběr</a:t>
              </a: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15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izika nesystémových přístupů a jejich vli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bsence množiny organizačních a legislativních zás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Špatně zadávací podmínky výběrových říz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ůsledkem jsou vyšší realizační nákl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či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ystémové paramet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dnotná informační bá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rušení autorských práv – rozhra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bsence množiny technických a technologických zás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rušení interoperability v národním a evropském kontex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ůsledkem jsou vyšší realizační nákl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či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utnost tvorby rozhra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azba na JSDI, e. coll, nebezpečné nákl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dílení informací - integr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Rizika a jejich vliv do ekonomi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rušení zásad systémového přístupu lze očekávat  ekonomické ztráty:  (stejná úroveň služe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rganizační a legislativní = vzrůst nákladů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o 250-400%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ická oblast – integrita přenosu informací = vzrůst nákladů o 300-4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chnická – sdílení informací v architektuře = vzrůst nákladů o 350-4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457200" y="274680"/>
            <a:ext cx="5757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ystémové parametry řeš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ntinuita (spojitos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6120" indent="-44172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chopnost systému plnit požadované funkce/procesy bez (neplánovaného) přeruš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Integri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6120" indent="-44172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chopnost systému včasně a bezchybně informovat uživatele, že systém nemůže být použit pro operace daného postu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ezpečno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6120" indent="-44172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chopnost systému, že v případě vzniku poruchy nedojde k poškození systému nebo k materiálním ztrátám či ztrátám na lidských živote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ystémové parametry řeš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11480" indent="-41148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řesn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24120" indent="-40968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hody mezi měřenou a definovanou hodnotou parametru/procesu/funk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polehlivost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24120" indent="-40968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chopnost systému plnit požadované funkce bez přerušení během daného postupu v průběhu definovaného časového interval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stupn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24120" indent="-40968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chopnost systému plnit požadované funkce při inicializaci (spuštění) systému/procesu dle daného postup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3T13:10:03Z</dcterms:created>
  <dc:creator>Vladimír Faltus</dc:creator>
  <dc:description/>
  <dc:language>en-US</dc:language>
  <cp:lastModifiedBy>Pavel Hrubeš</cp:lastModifiedBy>
  <dcterms:modified xsi:type="dcterms:W3CDTF">2009-05-13T12:51:03Z</dcterms:modified>
  <cp:revision>68</cp:revision>
  <dc:subject/>
  <dc:title>K620 - služby v oblasti Řízení dopravy</dc:title>
</cp:coreProperties>
</file>