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12.jpeg" ContentType="image/jpeg"/>
  <Override PartName="/ppt/media/image5.wmf" ContentType="image/x-wmf"/>
  <Override PartName="/ppt/media/image25.png" ContentType="image/png"/>
  <Override PartName="/ppt/media/image21.png" ContentType="image/png"/>
  <Override PartName="/ppt/media/image3.wmf" ContentType="image/x-wmf"/>
  <Override PartName="/ppt/media/image4.png" ContentType="image/png"/>
  <Override PartName="/ppt/media/image20.png" ContentType="image/png"/>
  <Override PartName="/ppt/media/image2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13.jpeg" ContentType="image/jpeg"/>
  <Override PartName="/ppt/media/image2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3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Img"/>
          </p:nvPr>
        </p:nvSpPr>
        <p:spPr>
          <a:xfrm>
            <a:off x="993600" y="769680"/>
            <a:ext cx="511200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ftr" idx="3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 type="sldNum" idx="3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08AA-3BD7-4796-8657-E9915C91267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E796-3DA5-4820-993E-35A0FF4F405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505BB-A9F4-4398-B974-59E7AD21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3A710-447E-4167-9E5A-1F47ED80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D8F6B-4840-499D-8387-1D743758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8C2F2-4D20-4C3D-BA15-CACA912B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2EC95-6CBF-4871-9451-6236634E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82DFF-5849-424E-BDC1-598B0FC8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ACA7E-9BB4-4A69-A0CE-7D9C1493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FDB19-A814-4C2C-BBEF-8FF7507E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91C80-5E18-413A-BA19-5F380DF3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BF191-53B5-4BF2-82FB-F855851F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1647A-9352-450A-8982-396E38F2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D3F72-A04F-4576-9DD4-29C08A54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5B60E-654E-4E9A-8AD5-3F27F50C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C5691-2100-4F41-88D1-2022669C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6D068-39D0-4BD6-8A7E-D0EBD2A0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537E3-D0FC-4BF3-B8B8-348D947A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4CC61-8378-4B58-817F-16D9AD6B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E6FAE-2B6D-4933-A429-36AFAC6E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A1964-B396-4B19-906C-D744D61D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8571C-8CFE-4DCC-9E08-CDFADD1F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3C455-6F61-435C-A3E3-E60EF3CC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B87C3-B370-40AB-948B-1839D53D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7391E-1906-40E5-A7C7-4EDA925C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6D82B-3850-4A02-8F63-E5FADE85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3B1E2-0FA1-44C3-ACC8-BE7D596D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C3D88-621A-407D-84F4-13F7F9D6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12B76-E7F6-4B35-8EAA-C05C24DC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2C783-90C4-4D9F-B7E0-6D25D165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967D1-0EA2-4172-BC3B-11E67461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D8E06-BD4D-41E2-A087-6ACAFE6D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294EA-D0D4-435D-BFE7-A2B34958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2AC63-5A33-4492-9984-6B474ADE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AE1EA-DBF9-4025-8D3E-61CF5684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3355A-EA31-41E2-AB8F-5934CC48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9389E-2F37-464E-B9D1-A9917F7B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A0980-EDDA-421B-9719-8F3B6A30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A41A7-2B5B-42B8-9C13-E5A56D90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68566-42E7-4202-B5F1-9B83ED6B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D9556-B2A6-497F-855A-A5931B35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53D55-603E-4437-B6A7-6B3A9AB1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05BAC-C03F-4374-8C25-8C75AA54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956DE-11BA-43DB-ACE4-C5DF8962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2465C-5A5F-469B-B61D-2ECD8A9E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CC04C-63CB-44E9-A153-159BADB4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20494-D6F2-420B-8EC7-FA8C2BC1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FE62A-99F9-456A-8713-21DD951E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90576-AF6E-4C36-A13D-A4EED498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9C15F-DDD0-45C8-91D7-B0ECCDA2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85AD0-D5B7-4FBD-A723-94457F12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49211-6D1E-4C0A-82AD-D22DB962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D1AE-0EFE-443B-B654-461E1CE4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0C1D-7CE6-49CF-A118-290A21F8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1C48-F55B-43E8-AC79-72FC6C6C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7390-CD1B-4920-9953-E28C7AD0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446C-771A-4E5F-B680-31822C5C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73603-690F-476B-B2CC-99601D98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EBC7-32DD-4163-88D4-F7496045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64DC-277B-4372-941B-6D504712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95ED-3D0C-4282-AB86-5B91EF3B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8532-F7FF-4C57-93D0-90C89F77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B9A3-D8F1-469A-AEAD-1CC1DABE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C968-0FE4-4828-973D-6E120828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03E6-18DD-42A7-B9D9-7981ABDA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DB7DD-8282-40A1-AD19-72684DA1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E342A-5446-471A-8874-EC034728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11058-3687-4618-8BDC-7DBB8C80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5F4CE-8C94-4BA0-9C09-B5FFF777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9CA2F-F86E-4016-BB46-3E173C40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0D5BB-D550-4AE4-97F9-D86A184B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66AEC-FB53-4880-8EE3-F9F6037A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FB532-C69E-42A0-A29E-78274CBC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FC124-765B-4F5A-949E-C379CE97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8DCBC-AB2C-4D35-BE17-A9E4CF00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6B764-B966-4691-967E-3701F83E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FB2AB-5DE2-43FD-98AF-D406719E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CD504-FBA2-4530-900D-828B6391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5335C-1DCA-4603-BEB6-D329AED7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D42B1-D45B-4AF6-B290-E3F8FD5D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C70FE-645F-4DBF-9DEA-F86F474C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A2AFE-7AF7-4F9B-884C-2F56B70C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36256-537B-4DA8-9831-11E3E835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78957-EF66-469F-AC54-9EC9B19B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0998B-780B-41EA-A02E-6FD0DD89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37F9F-4893-40C3-8641-A37E469F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86139-AE88-4728-AFB7-A1F7325D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56138-F40D-4473-BC4E-5804CEE2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9AFA6-D9B5-4109-8CC8-51EB5FD6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BEF0D-0729-4937-A1A7-243305FF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CB24A-C860-4AC2-AC24-AD9B34A8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8DDCE-6D93-4A38-BB63-5F7C609D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B9894-BFF0-44D6-B5F6-CB1803E4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E12A7-1417-454A-B851-5E03AA72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D5B87-96BC-46F8-AAA5-0DDD2061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C3733-4018-4103-AE8A-490A3B0E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B13BC-059A-43BE-AA20-A9EA589D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6E262-4250-4946-832C-FCBC82E6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C9D06-329D-4634-814A-9194F19E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C87A1-4A47-41BF-BE4D-14FD9E45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37F78-D724-4B26-A256-305A4986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14C6D-C121-4055-AF2A-8B95CC0E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791E1-620C-47DA-8903-90731FC1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099EB-B236-4DE9-95BC-FFFD3BEE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0A80A-B4F5-40E2-9E04-D7FC75E0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FF542-6FE1-45E8-9E95-E5A78703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19358-4B4B-4B23-8233-A9A77676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D524D-D760-40A5-BE68-655BDFE9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B41B3-03F8-4002-B4F4-EAC163E8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09857-37E3-4F13-8B26-A650169B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F7258-8628-4F4C-9C23-E9DDA724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04B22-BBF7-4398-B8F7-77652EAB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0DE7F-3DA4-472C-96C1-84F56209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A2CA3-4CF4-49F4-9F35-9C42E280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F4A94-6257-4465-82D0-3865B21F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D5F12-F1F8-4FC4-A9AA-5BD7D9C3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98343-35A0-43E6-BAC5-EA2585A6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9C84D-0BD9-4CFD-8A8F-A1A48BA4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0E83A-1F39-4CD3-974E-0D6C2154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9D318-A59B-440E-9E80-4A37C4EA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0124F-C0F5-4E2A-9159-4DB2D84A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18AE0-64BC-4905-9552-BAA22719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17A94-BE72-4566-B63B-92002935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1A87C-0BE8-4550-9F4E-0A07726F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DC191-7FF9-4BE6-B8D9-01E08BD0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3338B-9237-4A98-A842-49FCA99B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C5FA4-A5B8-43BC-96F2-70B72672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84545-3CEC-4370-9ABD-2F72188E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735EA-52B8-4014-B1EE-2BD39655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201E6-A452-4A38-8E8F-E68FA001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446FC-064D-4CB6-89CC-429AC25A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51E83-2B06-4924-A143-686D52DD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423E0-C5A4-49A7-A1E1-2EC2BBDE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8F8DA-BED6-49B4-8EBE-437DAB53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F596-1274-44B3-8A0A-DCC0132702FF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3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6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sldNum" idx="27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DBBF-EC2C-43D7-BE78-6CBA73E9EC5D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ftr" idx="28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8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9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30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2772-6701-4C63-8545-B3B5B2E69AEE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31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2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52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3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2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3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5FDC-5930-48B9-97AA-D8F6A9489DB2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4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56600" cy="6902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4952880" y="685800"/>
            <a:ext cx="33530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Praze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74720" cy="58608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876920" y="1693800"/>
            <a:ext cx="426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Fakulta dopravní  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876920" y="24210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831a4"/>
                </a:solidFill>
                <a:latin typeface="Arial"/>
              </a:rPr>
              <a:t>Ústav řídicí techniky a telematiky</a:t>
            </a: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9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BDAF-ECF1-4F46-A9AF-A61B7EA7E2EE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4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8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9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AABA-E3D9-443E-BA76-5928FF5E6D43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10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9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D375-C30B-49B4-8548-5DE96BD7FBA4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4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4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3A1A-4846-4F28-BB7D-A08476FBCCFA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6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8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8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9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7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8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9C91-04D1-40C9-80BA-C58BD4034F97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19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3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0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sldNum" idx="21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C25B-550E-4B92-A28D-E2469AFFBF92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22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8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3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4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4057-B375-4248-BFC3-ACEDD5430CCC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5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03640" y="3284640"/>
            <a:ext cx="3600720" cy="13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 CE"/>
              </a:rPr>
              <a:t>Navigační a identifikační systé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ovéPole 3"/>
          <p:cNvSpPr/>
          <p:nvPr/>
        </p:nvSpPr>
        <p:spPr>
          <a:xfrm>
            <a:off x="5000760" y="52149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CE"/>
              </a:rPr>
              <a:t>Petr Bureš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přepravy nebezpečných nákla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, sledování, plánování a záchranné práce, propojení na další informační 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0" name="Picture 3" descr="naklady5%20copy3"/>
          <p:cNvPicPr/>
          <p:nvPr/>
        </p:nvPicPr>
        <p:blipFill>
          <a:blip r:embed="rId1"/>
          <a:stretch/>
        </p:blipFill>
        <p:spPr>
          <a:xfrm>
            <a:off x="5429160" y="3857760"/>
            <a:ext cx="3375000" cy="20286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9"/>
          <p:cNvSpPr/>
          <p:nvPr/>
        </p:nvSpPr>
        <p:spPr>
          <a:xfrm>
            <a:off x="3643200" y="3681360"/>
            <a:ext cx="387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2" name="Picture 10" descr="IMG_0513"/>
          <p:cNvPicPr/>
          <p:nvPr/>
        </p:nvPicPr>
        <p:blipFill>
          <a:blip r:embed="rId2"/>
          <a:stretch/>
        </p:blipFill>
        <p:spPr>
          <a:xfrm>
            <a:off x="1785960" y="3500280"/>
            <a:ext cx="326700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3" name="Object 6"/>
          <p:cNvGraphicFramePr/>
          <p:nvPr/>
        </p:nvGraphicFramePr>
        <p:xfrm>
          <a:off x="4786200" y="4429080"/>
          <a:ext cx="104796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4429080"/>
                    <a:ext cx="10479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sledování a řízení pohybu prostřednictvím GN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u po letištní ploše, propojení s řídícím centrem, výběr komunikačního prostředí, zabezpečení, testování,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8" name="Picture 2" descr="image010"/>
          <p:cNvPicPr/>
          <p:nvPr/>
        </p:nvPicPr>
        <p:blipFill>
          <a:blip r:embed="rId1"/>
          <a:stretch/>
        </p:blipFill>
        <p:spPr>
          <a:xfrm>
            <a:off x="1857240" y="3929040"/>
            <a:ext cx="3159360" cy="21430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"/>
          <p:cNvPicPr/>
          <p:nvPr/>
        </p:nvPicPr>
        <p:blipFill>
          <a:blip r:embed="rId2"/>
          <a:stretch/>
        </p:blipFill>
        <p:spPr>
          <a:xfrm>
            <a:off x="5715000" y="3857760"/>
            <a:ext cx="17146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Zástupný symbol pro zápatí 5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sah Prezent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2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pojení ústavu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dynamické navig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atelitní systémy elektronického mýtnéh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pro sledování přepravy nebezpečných náklad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kladní informace o projekt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stav se podílí na projektech v rámci laboratoře e-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udentsk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 tematicky zaměřené projekty (navigace, dopravní informace a identifika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zkumn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VaV MD ČR (dopravní informace, monitorování 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TP MPO ČR (identifikace, telematická jednot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1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popisu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rmáty a struktura protokolů DATEX2, TMC, TPEG, at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5613480" y="2786040"/>
            <a:ext cx="3530520" cy="2104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2" name="Picture 2" descr="bla2"/>
          <p:cNvPicPr/>
          <p:nvPr/>
        </p:nvPicPr>
        <p:blipFill>
          <a:blip r:embed="rId2"/>
          <a:stretch/>
        </p:blipFill>
        <p:spPr>
          <a:xfrm>
            <a:off x="4500720" y="4071960"/>
            <a:ext cx="2207880" cy="2122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3" name="Picture 8" descr="tmcmsg.jpg"/>
          <p:cNvPicPr/>
          <p:nvPr/>
        </p:nvPicPr>
        <p:blipFill>
          <a:blip r:embed="rId3"/>
          <a:stretch/>
        </p:blipFill>
        <p:spPr>
          <a:xfrm>
            <a:off x="1500120" y="2786040"/>
            <a:ext cx="3500640" cy="2630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1428480" y="857160"/>
            <a:ext cx="73911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lokalizace dopravních informac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dynamický popis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zba DI do mapového podkl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2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Picture 9" descr="lt_stn_link"/>
          <p:cNvPicPr/>
          <p:nvPr/>
        </p:nvPicPr>
        <p:blipFill>
          <a:blip r:embed="rId1"/>
          <a:stretch/>
        </p:blipFill>
        <p:spPr>
          <a:xfrm>
            <a:off x="1643040" y="3286080"/>
            <a:ext cx="3643200" cy="25876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9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2"/>
          <a:stretch/>
        </p:blipFill>
        <p:spPr>
          <a:xfrm>
            <a:off x="3786120" y="3214800"/>
            <a:ext cx="4098960" cy="2746440"/>
          </a:xfrm>
          <a:prstGeom prst="rect">
            <a:avLst/>
          </a:prstGeom>
          <a:ln w="0">
            <a:noFill/>
          </a:ln>
        </p:spPr>
      </p:pic>
      <p:grpSp>
        <p:nvGrpSpPr>
          <p:cNvPr id="599" name="Skupina 17"/>
          <p:cNvGrpSpPr/>
          <p:nvPr/>
        </p:nvGrpSpPr>
        <p:grpSpPr>
          <a:xfrm>
            <a:off x="3786120" y="3214800"/>
            <a:ext cx="4006800" cy="2738160"/>
            <a:chOff x="3786120" y="3214800"/>
            <a:chExt cx="4006800" cy="2738160"/>
          </a:xfrm>
        </p:grpSpPr>
        <p:sp>
          <p:nvSpPr>
            <p:cNvPr id="600" name="Obdélník 11"/>
            <p:cNvSpPr/>
            <p:nvPr/>
          </p:nvSpPr>
          <p:spPr>
            <a:xfrm>
              <a:off x="3917880" y="4751280"/>
              <a:ext cx="3583080" cy="1035000"/>
            </a:xfrm>
            <a:prstGeom prst="rect">
              <a:avLst/>
            </a:prstGeom>
            <a:noFill/>
            <a:ln w="25560">
              <a:solidFill>
                <a:srgbClr val="c9dd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grpSp>
          <p:nvGrpSpPr>
            <p:cNvPr id="601" name="Skupina 17"/>
            <p:cNvGrpSpPr/>
            <p:nvPr/>
          </p:nvGrpSpPr>
          <p:grpSpPr>
            <a:xfrm>
              <a:off x="3786120" y="3214800"/>
              <a:ext cx="4006800" cy="2738160"/>
              <a:chOff x="3786120" y="3214800"/>
              <a:chExt cx="4006800" cy="2738160"/>
            </a:xfrm>
          </p:grpSpPr>
          <p:sp>
            <p:nvSpPr>
              <p:cNvPr id="602" name="Obdélník 12"/>
              <p:cNvSpPr/>
              <p:nvPr/>
            </p:nvSpPr>
            <p:spPr>
              <a:xfrm>
                <a:off x="3786120" y="3214800"/>
                <a:ext cx="4006800" cy="153144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3" name="Obdélník 14"/>
              <p:cNvSpPr/>
              <p:nvPr/>
            </p:nvSpPr>
            <p:spPr>
              <a:xfrm>
                <a:off x="3786120" y="4746240"/>
                <a:ext cx="1368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4" name="Obdélník 15"/>
              <p:cNvSpPr/>
              <p:nvPr/>
            </p:nvSpPr>
            <p:spPr>
              <a:xfrm>
                <a:off x="3786120" y="5779800"/>
                <a:ext cx="4006800" cy="17316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5" name="Obdélník 16"/>
              <p:cNvSpPr/>
              <p:nvPr/>
            </p:nvSpPr>
            <p:spPr>
              <a:xfrm>
                <a:off x="7512480" y="4746240"/>
                <a:ext cx="2772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</p:grpSp>
      </p:grpSp>
      <p:pic>
        <p:nvPicPr>
          <p:cNvPr id="606" name="Picture 2" descr="aplagora"/>
          <p:cNvPicPr/>
          <p:nvPr/>
        </p:nvPicPr>
        <p:blipFill>
          <a:blip r:embed="rId3"/>
          <a:stretch/>
        </p:blipFill>
        <p:spPr>
          <a:xfrm>
            <a:off x="6072120" y="3429000"/>
            <a:ext cx="2836800" cy="2338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3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vysílání, příjmu a vizualizace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přenosových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funkčnosti navig. přístr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0" name="Obrázek 9" descr="p118_Mio.jpg"/>
          <p:cNvPicPr/>
          <p:nvPr/>
        </p:nvPicPr>
        <p:blipFill>
          <a:blip r:embed="rId1"/>
          <a:stretch/>
        </p:blipFill>
        <p:spPr>
          <a:xfrm>
            <a:off x="5357880" y="4143240"/>
            <a:ext cx="3565440" cy="1990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1" name="Picture 2" descr="P1370210"/>
          <p:cNvPicPr/>
          <p:nvPr/>
        </p:nvPicPr>
        <p:blipFill>
          <a:blip r:embed="rId2"/>
          <a:stretch/>
        </p:blipFill>
        <p:spPr>
          <a:xfrm>
            <a:off x="1428840" y="3714840"/>
            <a:ext cx="3692520" cy="2401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2" name="Picture 3" descr=""/>
          <p:cNvPicPr/>
          <p:nvPr/>
        </p:nvPicPr>
        <p:blipFill>
          <a:blip r:embed="rId3"/>
          <a:srcRect l="0" t="16339" r="0" b="13465"/>
          <a:stretch/>
        </p:blipFill>
        <p:spPr>
          <a:xfrm>
            <a:off x="3714840" y="3214800"/>
            <a:ext cx="3200400" cy="1684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identifikačních technolog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tředky ident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a zabezpečení identif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telematických aplik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FC, EL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R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1"/>
          <a:stretch/>
        </p:blipFill>
        <p:spPr>
          <a:xfrm>
            <a:off x="5857920" y="3857760"/>
            <a:ext cx="2552760" cy="2038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"/>
          <p:cNvPicPr/>
          <p:nvPr/>
        </p:nvPicPr>
        <p:blipFill>
          <a:blip r:embed="rId2"/>
          <a:stretch/>
        </p:blipFill>
        <p:spPr>
          <a:xfrm>
            <a:off x="2071800" y="3929040"/>
            <a:ext cx="34290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architektury systému mýtné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satelitní systém, hybridní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hybridního systému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inárodních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em (C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1" name="Picture 5" descr="PC130011"/>
          <p:cNvPicPr/>
          <p:nvPr/>
        </p:nvPicPr>
        <p:blipFill>
          <a:blip r:embed="rId1"/>
          <a:stretch/>
        </p:blipFill>
        <p:spPr>
          <a:xfrm>
            <a:off x="4786200" y="3643200"/>
            <a:ext cx="392904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voj universální telematické jednot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funkcí, rozhraní a přenosových prostřed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voj prototy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5" name="Picture 5" descr="architecture"/>
          <p:cNvPicPr/>
          <p:nvPr/>
        </p:nvPicPr>
        <p:blipFill>
          <a:blip r:embed="rId1"/>
          <a:stretch/>
        </p:blipFill>
        <p:spPr>
          <a:xfrm>
            <a:off x="4714920" y="3857760"/>
            <a:ext cx="4178160" cy="18237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9" descr=""/>
          <p:cNvPicPr/>
          <p:nvPr/>
        </p:nvPicPr>
        <p:blipFill>
          <a:blip r:embed="rId2"/>
          <a:stretch/>
        </p:blipFill>
        <p:spPr>
          <a:xfrm>
            <a:off x="1571760" y="4429080"/>
            <a:ext cx="292896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1:12:06Z</dcterms:created>
  <dc:creator>jakub</dc:creator>
  <dc:description/>
  <dc:language>en-US</dc:language>
  <cp:lastModifiedBy>Pavel Hrubeš</cp:lastModifiedBy>
  <dcterms:modified xsi:type="dcterms:W3CDTF">2009-05-13T07:50:00Z</dcterms:modified>
  <cp:revision>136</cp:revision>
  <dc:subject/>
  <dc:title>Work Package 6</dc:title>
</cp:coreProperties>
</file>