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E3ED-8667-4DBA-940A-81AA0BE8FC2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9749-17CC-43FF-90A7-AD4EE67735F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8E11-3860-467B-B865-847966A446F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9E8E-66A9-402D-8A46-24B4D160DE2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6149-FD21-4959-8671-EEF2BE2D794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B600-9751-4248-A254-4237B7FB8BE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EBA1-F2E0-4945-9178-7F6B4E389AD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A1FB-F26C-4DDE-8205-19E8EC51CA3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9CF0-C311-4AA9-83C8-CE07CA0591B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9161-A33E-4F59-9452-0B3B8029709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E0F7-E26E-46B1-82E5-0EF3FF03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CD5B-14C3-4F6B-AA3B-07BD1415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D904-523C-43AC-A809-23EE1F23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2165-BC62-46FD-AED9-EECE2F8B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E035-3777-4D8E-9697-058C248E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748-C5EC-4B97-854B-06047CDD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E1FF-3C5D-4B9E-B0A0-DE3B8861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5A0A-22CE-4455-B28B-442ABCC8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FFC-15DD-40F8-830D-8131BE3C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4DC6-5F91-408B-8C12-AD8B238D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AE43-AFB4-4580-9448-5B90E2A8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2783-3093-4CC6-8A44-5A7509D3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atedra řídí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B4A9-0271-4503-A67A-7EC555BA41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Katedra řídí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7480" y="2924280"/>
            <a:ext cx="450036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Bezpečnost a spolehlivost telematických systémů a zařízení </a:t>
            </a:r>
            <a:br>
              <a:rPr sz="2400"/>
            </a:br>
            <a:br>
              <a:rPr sz="24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Certifikační orgán</a:t>
            </a:r>
            <a:br>
              <a:rPr sz="18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Zkušební laborato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286240" y="571464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Martin Leso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V FD posuzuje shodu výrobku (dle SKP 31.62.1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vropský železniční systém  - subsystém řízení a zabezpe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železniční zabezpečovací techniky včetně mobilní části vlakového zabezpečovacího z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sdělovací techniky, které se podílejí na bezpečné činnosti výrobku v oboru železniční zabezpečovací techniky nebo by mohly ovlivnit jejich bezpečnou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rmativní dokumenty pro posuzování s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řízení vlády č. 133/2005 Sb. ve znění nařízení vlády č. 371/2007 Sb. (2001/16/ES, 96/48/ES, 2004/50/ES, 2007/32/ES) a navazující Vyhláška č. 352/2004 Sb. ve znění vyhl. č. 377/2006 Sb. v rozsahu norem: ČSN EN 50121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SN EN 50121-2; ČSN EN 50121-3-1; ČSN EN 50121-3-2; ČSN EN 50121-4; ČSN EN 50121-5; ČSN EN 50 124-1; ČSN EN 50 124-2; ČSN EN 50125-1; ČSN EN 50125-3; ČSN EN 50155; ČSN EN 50126; ČSN EN 50128; ČSN EN 50129; ČSN EN 50159-1; ČSN EN 50159-2; ČSN EN 50238; ČSN 34 2040, Kapitola III., IV., V; ČSN 34 2600; ČSN 34 2613; ČSN 34 2614; ČSN 34 2617; TNŽ 28 1020; TNŽ 34 2604; TNŽ 34 2606; TNŽ 34 2607; TNŽ 34 2610; TNŽ 34 2620; TNŽ 34 2640; TNŽ 34 266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TSI EN 300330-1; Rozhodnutí komise 2006/860/ES, v rozsahu přílohy TSI, kap. 3 a 4. + 2007/153/ES Změna přílohy A; Rozhodnutí Komise 2006/679/ES, v rozsahu přílohy TSI, kap. 3.a 4. + 2007/153/ES Změna přílohy A; ČSN 342650; ČSN 28 1310, čl. 7, čl. 9.5.3, čl. 9.5.5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měrnice SŽDC č.34/2007, Článek 12; Směrnice SŽDC č. 16/2005, v rozsahu požadavků bodu 4 v příloze 1; Vyhláška MD č. 177/1995 Sb.ve znění vyhl. č. 243/1996 Sb., vyhl. č. 346/2000 Sb., vyhl. č. 413/2001 Sb. a vyhl. č. 577/2004 Sb. v rozsahu požadavků § 23 až § 24 a § 42 až § 44 a § 60 až § 6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76360" y="1341360"/>
          <a:ext cx="7391520" cy="3780000"/>
        </p:xfrm>
        <a:graphic>
          <a:graphicData uri="http://schemas.openxmlformats.org/drawingml/2006/table">
            <a:tbl>
              <a:tblPr/>
              <a:tblGrid>
                <a:gridCol w="531720"/>
                <a:gridCol w="6859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užba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železničních zabezpečovacích zařízení s požadavky normy nebo jiného dokument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součástí interoperabilit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ěřování subsystémů evropského železničního systém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34"/>
          <p:cNvSpPr/>
          <p:nvPr/>
        </p:nvSpPr>
        <p:spPr>
          <a:xfrm>
            <a:off x="1403280" y="765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V FD poskytuje 3 druhy služeb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odborné činnosti a aktivity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vorba standardů a norem z oblasti železniční zabezpečovací techn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udky a odborná stanoviska k řešení zabezpečení železničních provozů a průmyslové automat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aktivity pracovní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9640" y="765000"/>
            <a:ext cx="73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a vývoj elektronických řídící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mikrokontrole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mel, Motorola, Intel, Mikro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CC, ICC, 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bezdrátové 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Fi, Bluetooth, Zi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hradlových polí FPGA, CP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ilinx Virtex 4, Virtex 5, Spartan 3,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E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vrh tištěných sp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CAD 10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modules"/>
          <p:cNvPicPr/>
          <p:nvPr/>
        </p:nvPicPr>
        <p:blipFill>
          <a:blip r:embed="rId1"/>
          <a:stretch/>
        </p:blipFill>
        <p:spPr>
          <a:xfrm>
            <a:off x="7800840" y="5157720"/>
            <a:ext cx="1343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alizované proje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cká parciální rekonfigurace (FPGA – Virtex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mplementace bezpečného logické jádra pro železniční zabezpečovací za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likace mikrokontrolerů (Atmel) a bezdrátové komunikace (Blueto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laboratoř fakulty dopra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modelového kolejiště a ovládacích prvků zabezpečovacích zařízen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kázka aplikace - Dopravní laboratoř fakulty doprav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DSC05586"/>
          <p:cNvPicPr/>
          <p:nvPr/>
        </p:nvPicPr>
        <p:blipFill>
          <a:blip r:embed="rId1"/>
          <a:stretch/>
        </p:blipFill>
        <p:spPr>
          <a:xfrm>
            <a:off x="5076720" y="3274920"/>
            <a:ext cx="4067280" cy="3051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SC05598"/>
          <p:cNvPicPr/>
          <p:nvPr/>
        </p:nvPicPr>
        <p:blipFill>
          <a:blip r:embed="rId2"/>
          <a:stretch/>
        </p:blipFill>
        <p:spPr>
          <a:xfrm>
            <a:off x="1332000" y="765000"/>
            <a:ext cx="3744720" cy="2864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_MG_3525"/>
          <p:cNvPicPr/>
          <p:nvPr/>
        </p:nvPicPr>
        <p:blipFill>
          <a:blip r:embed="rId3"/>
          <a:stretch/>
        </p:blipFill>
        <p:spPr>
          <a:xfrm>
            <a:off x="5076720" y="765000"/>
            <a:ext cx="4067280" cy="2500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bluetooth"/>
          <p:cNvPicPr/>
          <p:nvPr/>
        </p:nvPicPr>
        <p:blipFill>
          <a:blip r:embed="rId4"/>
          <a:stretch/>
        </p:blipFill>
        <p:spPr>
          <a:xfrm>
            <a:off x="1332000" y="3645000"/>
            <a:ext cx="3744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3915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kušební laborato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Fakulty doprav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www.zl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Multimetr"/>
          <p:cNvPicPr/>
          <p:nvPr/>
        </p:nvPicPr>
        <p:blipFill>
          <a:blip r:embed="rId1"/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ušební laboratoř Fakulty doprav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2000" y="764640"/>
            <a:ext cx="7812000" cy="54723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Zkušební laboratoř má dvě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měření základních elektrických velič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speciální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boratoř je akreditována 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eskéh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u pro akreditaci,o.p.s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akreditovány jsou zkoušky na pracovišti č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oviště č.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836280"/>
            <a:ext cx="7696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1 je měření základních elektrických velič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050920" y="2060640"/>
            <a:ext cx="61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ět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mitoč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ázový posu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476360" y="4422600"/>
            <a:ext cx="76676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zkoušky typové, kontrolní a bezpečnostní funkce elektrických, elektromechanických a elektronických zabezpečovacích zařízení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218"/>
          <p:cNvGrpSpPr/>
          <p:nvPr/>
        </p:nvGrpSpPr>
        <p:grpSpPr>
          <a:xfrm>
            <a:off x="1476360" y="836640"/>
            <a:ext cx="7372080" cy="5283000"/>
            <a:chOff x="1476360" y="836640"/>
            <a:chExt cx="7372080" cy="5283000"/>
          </a:xfrm>
        </p:grpSpPr>
        <p:sp>
          <p:nvSpPr>
            <p:cNvPr id="119" name="Rectangle 126"/>
            <p:cNvSpPr/>
            <p:nvPr/>
          </p:nvSpPr>
          <p:spPr>
            <a:xfrm>
              <a:off x="2858400" y="5298840"/>
              <a:ext cx="5987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střídavých složek zpětných trakčních proudů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5"/>
            <p:cNvSpPr/>
            <p:nvPr/>
          </p:nvSpPr>
          <p:spPr>
            <a:xfrm>
              <a:off x="1476360" y="5298840"/>
              <a:ext cx="1382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22"/>
            <p:cNvSpPr/>
            <p:nvPr/>
          </p:nvSpPr>
          <p:spPr>
            <a:xfrm>
              <a:off x="2858400" y="450504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fázového posun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21"/>
            <p:cNvSpPr/>
            <p:nvPr/>
          </p:nvSpPr>
          <p:spPr>
            <a:xfrm>
              <a:off x="1476360" y="450504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18"/>
            <p:cNvSpPr/>
            <p:nvPr/>
          </p:nvSpPr>
          <p:spPr>
            <a:xfrm>
              <a:off x="2858400" y="370980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kmitočt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17"/>
            <p:cNvSpPr/>
            <p:nvPr/>
          </p:nvSpPr>
          <p:spPr>
            <a:xfrm>
              <a:off x="1476360" y="370980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14"/>
            <p:cNvSpPr/>
            <p:nvPr/>
          </p:nvSpPr>
          <p:spPr>
            <a:xfrm>
              <a:off x="2858400" y="291600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odpor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13"/>
            <p:cNvSpPr/>
            <p:nvPr/>
          </p:nvSpPr>
          <p:spPr>
            <a:xfrm>
              <a:off x="1476360" y="291600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0"/>
            <p:cNvSpPr/>
            <p:nvPr/>
          </p:nvSpPr>
          <p:spPr>
            <a:xfrm>
              <a:off x="2858400" y="212076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proud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09"/>
            <p:cNvSpPr/>
            <p:nvPr/>
          </p:nvSpPr>
          <p:spPr>
            <a:xfrm>
              <a:off x="1476360" y="212076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06"/>
            <p:cNvSpPr/>
            <p:nvPr/>
          </p:nvSpPr>
          <p:spPr>
            <a:xfrm>
              <a:off x="2858400" y="1298520"/>
              <a:ext cx="598788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napětí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5"/>
            <p:cNvSpPr/>
            <p:nvPr/>
          </p:nvSpPr>
          <p:spPr>
            <a:xfrm>
              <a:off x="1476360" y="1298520"/>
              <a:ext cx="13820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02"/>
            <p:cNvSpPr/>
            <p:nvPr/>
          </p:nvSpPr>
          <p:spPr>
            <a:xfrm>
              <a:off x="2858400" y="842760"/>
              <a:ext cx="5987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ázev zkoušky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1"/>
            <p:cNvSpPr/>
            <p:nvPr/>
          </p:nvSpPr>
          <p:spPr>
            <a:xfrm>
              <a:off x="1476360" y="842760"/>
              <a:ext cx="138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Číslo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0"/>
            <p:cNvSpPr/>
            <p:nvPr/>
          </p:nvSpPr>
          <p:spPr>
            <a:xfrm>
              <a:off x="285840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29"/>
            <p:cNvSpPr/>
            <p:nvPr/>
          </p:nvSpPr>
          <p:spPr>
            <a:xfrm>
              <a:off x="1476360" y="836640"/>
              <a:ext cx="7370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2"/>
            <p:cNvSpPr/>
            <p:nvPr/>
          </p:nvSpPr>
          <p:spPr>
            <a:xfrm>
              <a:off x="884664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55"/>
            <p:cNvSpPr/>
            <p:nvPr/>
          </p:nvSpPr>
          <p:spPr>
            <a:xfrm>
              <a:off x="1476360" y="129852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64"/>
            <p:cNvSpPr/>
            <p:nvPr/>
          </p:nvSpPr>
          <p:spPr>
            <a:xfrm>
              <a:off x="1476360" y="212076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73"/>
            <p:cNvSpPr/>
            <p:nvPr/>
          </p:nvSpPr>
          <p:spPr>
            <a:xfrm>
              <a:off x="1476360" y="29160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82"/>
            <p:cNvSpPr/>
            <p:nvPr/>
          </p:nvSpPr>
          <p:spPr>
            <a:xfrm>
              <a:off x="1476360" y="37098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91"/>
            <p:cNvSpPr/>
            <p:nvPr/>
          </p:nvSpPr>
          <p:spPr>
            <a:xfrm>
              <a:off x="1476360" y="45050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31"/>
            <p:cNvSpPr/>
            <p:nvPr/>
          </p:nvSpPr>
          <p:spPr>
            <a:xfrm>
              <a:off x="1476360" y="842760"/>
              <a:ext cx="0" cy="5276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0"/>
            <p:cNvSpPr/>
            <p:nvPr/>
          </p:nvSpPr>
          <p:spPr>
            <a:xfrm>
              <a:off x="1476360" y="52988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30"/>
            <p:cNvSpPr/>
            <p:nvPr/>
          </p:nvSpPr>
          <p:spPr>
            <a:xfrm>
              <a:off x="1476360" y="6119640"/>
              <a:ext cx="7372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619280" y="1022760"/>
            <a:ext cx="734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2 je zkoušení koncových telekomunikačních zařízení GSM-R a aplikací dle platných standardů UIC a ETSI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současné době je zkoušení na pracovišti č. 2 bez odkazu na akreditac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9" descr="Antena GSM-R"/>
          <p:cNvPicPr/>
          <p:nvPr/>
        </p:nvPicPr>
        <p:blipFill>
          <a:blip r:embed="rId1"/>
          <a:stretch/>
        </p:blipFill>
        <p:spPr>
          <a:xfrm>
            <a:off x="7164360" y="4967280"/>
            <a:ext cx="1979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346040"/>
          <a:ext cx="7391160" cy="4175280"/>
        </p:xfrm>
        <a:graphic>
          <a:graphicData uri="http://schemas.openxmlformats.org/drawingml/2006/table">
            <a:tbl>
              <a:tblPr/>
              <a:tblGrid>
                <a:gridCol w="1323720"/>
                <a:gridCol w="6067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ihlášení mobilního terminálu do sítě GSM-R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sestavení spojení mobilního terminálu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inová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ní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JOP"/>
          <p:cNvPicPr/>
          <p:nvPr/>
        </p:nvPicPr>
        <p:blipFill>
          <a:blip r:embed="rId1"/>
          <a:stretch/>
        </p:blipFill>
        <p:spPr>
          <a:xfrm>
            <a:off x="3635280" y="4221000"/>
            <a:ext cx="2747880" cy="2062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445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Certifikační orgán pro výrob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ři Fakultě doprav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cov.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467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31640" y="1125360"/>
            <a:ext cx="7391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Certifikační orgán pro výrob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(COV F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vádí certifikaci shody pro výrobky z oblasti železniční zabezpečovací techniky. COV FD je akreditován u Českého institutu pro akreditaci, o.p.s pod číslem 241/200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2" descr="pendolino_net_1"/>
          <p:cNvPicPr/>
          <p:nvPr/>
        </p:nvPicPr>
        <p:blipFill>
          <a:blip r:embed="rId1"/>
          <a:stretch/>
        </p:blipFill>
        <p:spPr>
          <a:xfrm>
            <a:off x="5940360" y="4548240"/>
            <a:ext cx="32036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xxx</dc:creator>
  <dc:description/>
  <dc:language>en-US</dc:language>
  <cp:lastModifiedBy>Pavel Hrubeš</cp:lastModifiedBy>
  <dcterms:modified xsi:type="dcterms:W3CDTF">2009-05-13T08:49:50Z</dcterms:modified>
  <cp:revision>104</cp:revision>
  <dc:subject/>
  <dc:title>Prezentace aplikace PowerPoint</dc:title>
</cp:coreProperties>
</file>