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8.jpeg" ContentType="image/jpeg"/>
  <Override PartName="/ppt/media/image12.png" ContentType="image/png"/>
  <Override PartName="/ppt/media/image7.png" ContentType="image/png"/>
  <Override PartName="/ppt/media/image18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4.png" ContentType="image/png"/>
  <Override PartName="/ppt/media/image6.jpeg" ContentType="image/jpeg"/>
  <Override PartName="/ppt/media/image9.jpeg" ContentType="image/jpeg"/>
  <Override PartName="/ppt/media/image11.jpeg" ContentType="image/jpe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5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ftr" idx="6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 type="sldNum" idx="7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B0A95-DD75-4558-AAE1-F131F6C2875A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B5D94-E4DD-4D08-9A0B-9A7EC35F03F7}" type="slidenum">
              <a:rPr b="1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A624D-F946-4AAD-8328-BE7986507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8CEBA-C6E9-4570-8DAC-2A36B55E7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3B6D1-89EF-4F8C-8715-A636505E8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4668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4544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4756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4668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4544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2F1DC-692A-429F-91E5-773CF7CA8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1676160" y="-360"/>
            <a:ext cx="74674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54ADE-2B93-466D-9E3A-96E0D6025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94668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44544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144756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94668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44544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08F15-A0D4-4841-98AE-7E5424BFA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C84F8-0A1E-47D3-B4FD-7439040CD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3F3CC-1301-4562-8071-3A0813E91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676160" y="-360"/>
            <a:ext cx="74674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780FB-57F0-4FFA-BB24-BF8FBAA60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49A84-F689-4673-80B5-D8E3B2834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8DBBE-243D-4D43-BBA4-5676DCA17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69B40-E36D-4455-B84C-DBC4D2E51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3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43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0831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Rectangle 40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České vysoké učení technické v Praze - Fakulta dopravní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Ústav řídicí techniky a telematik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8153280" y="632448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837FB-6796-4F8B-91FF-F562E24857A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12880" indent="-2286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36" descr=""/>
          <p:cNvPicPr/>
          <p:nvPr/>
        </p:nvPicPr>
        <p:blipFill>
          <a:blip r:embed="rId3"/>
          <a:stretch/>
        </p:blipFill>
        <p:spPr>
          <a:xfrm>
            <a:off x="7543800" y="6381720"/>
            <a:ext cx="533520" cy="405000"/>
          </a:xfrm>
          <a:prstGeom prst="rect">
            <a:avLst/>
          </a:prstGeom>
          <a:ln w="0">
            <a:noFill/>
          </a:ln>
        </p:spPr>
      </p:pic>
      <p:sp>
        <p:nvSpPr>
          <p:cNvPr id="8" name="Line 45"/>
          <p:cNvSpPr/>
          <p:nvPr/>
        </p:nvSpPr>
        <p:spPr>
          <a:xfrm>
            <a:off x="838080" y="0"/>
            <a:ext cx="0" cy="6248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" name="Picture 49" descr="obr3a_hhh"/>
          <p:cNvPicPr/>
          <p:nvPr/>
        </p:nvPicPr>
        <p:blipFill>
          <a:blip r:embed="rId4"/>
          <a:srcRect l="15230" t="4755" r="69543" b="0"/>
          <a:stretch/>
        </p:blipFill>
        <p:spPr>
          <a:xfrm>
            <a:off x="0" y="0"/>
            <a:ext cx="1295280" cy="6324480"/>
          </a:xfrm>
          <a:prstGeom prst="rect">
            <a:avLst/>
          </a:prstGeom>
          <a:ln w="0">
            <a:noFill/>
          </a:ln>
        </p:spPr>
      </p:pic>
      <p:sp>
        <p:nvSpPr>
          <p:cNvPr id="10" name="Line 51"/>
          <p:cNvSpPr/>
          <p:nvPr/>
        </p:nvSpPr>
        <p:spPr>
          <a:xfrm>
            <a:off x="1295280" y="0"/>
            <a:ext cx="0" cy="6324480"/>
          </a:xfrm>
          <a:prstGeom prst="line">
            <a:avLst/>
          </a:prstGeom>
          <a:ln w="9360">
            <a:solidFill>
              <a:srgbClr val="2a3d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Line 29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9" descr="obr3a_hhh"/>
          <p:cNvPicPr/>
          <p:nvPr/>
        </p:nvPicPr>
        <p:blipFill>
          <a:blip r:embed="rId3"/>
          <a:stretch/>
        </p:blipFill>
        <p:spPr>
          <a:xfrm>
            <a:off x="0" y="0"/>
            <a:ext cx="9144000" cy="6889680"/>
          </a:xfrm>
          <a:prstGeom prst="rect">
            <a:avLst/>
          </a:prstGeom>
          <a:ln w="0">
            <a:noFill/>
          </a:ln>
        </p:spPr>
      </p:pic>
      <p:sp>
        <p:nvSpPr>
          <p:cNvPr id="49" name="Text Box 21"/>
          <p:cNvSpPr/>
          <p:nvPr/>
        </p:nvSpPr>
        <p:spPr>
          <a:xfrm>
            <a:off x="4952880" y="68580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České vysoké učení technické v Praz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23"/>
          <p:cNvSpPr/>
          <p:nvPr/>
        </p:nvSpPr>
        <p:spPr>
          <a:xfrm>
            <a:off x="4876920" y="182880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a3d7a"/>
                </a:solidFill>
                <a:latin typeface="Arial"/>
              </a:rPr>
              <a:t>Fakulta dopravní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24"/>
          <p:cNvSpPr/>
          <p:nvPr/>
        </p:nvSpPr>
        <p:spPr>
          <a:xfrm>
            <a:off x="4876920" y="2209680"/>
            <a:ext cx="426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a3d7a"/>
                </a:solidFill>
                <a:latin typeface="Arial"/>
              </a:rPr>
              <a:t>Ústav řídicí techniky a telematiky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Picture 38" descr=""/>
          <p:cNvPicPr/>
          <p:nvPr/>
        </p:nvPicPr>
        <p:blipFill>
          <a:blip r:embed="rId4"/>
          <a:stretch/>
        </p:blipFill>
        <p:spPr>
          <a:xfrm>
            <a:off x="8305920" y="722160"/>
            <a:ext cx="761760" cy="573120"/>
          </a:xfrm>
          <a:prstGeom prst="rect">
            <a:avLst/>
          </a:prstGeom>
          <a:ln w="0">
            <a:noFill/>
          </a:ln>
        </p:spPr>
      </p:pic>
      <p:sp>
        <p:nvSpPr>
          <p:cNvPr id="53" name="Line 46"/>
          <p:cNvSpPr/>
          <p:nvPr/>
        </p:nvSpPr>
        <p:spPr>
          <a:xfrm>
            <a:off x="4572000" y="685800"/>
            <a:ext cx="0" cy="6248520"/>
          </a:xfrm>
          <a:prstGeom prst="line">
            <a:avLst/>
          </a:prstGeom>
          <a:ln w="9360">
            <a:solidFill>
              <a:srgbClr val="2a3d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12880" indent="-2286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8765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876920" y="2714400"/>
            <a:ext cx="376704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2a3d7a"/>
                </a:solidFill>
                <a:latin typeface="Arial"/>
              </a:rPr>
              <a:t>Představení fakulty, </a:t>
            </a:r>
            <a:br>
              <a:rPr sz="2000"/>
            </a:br>
            <a:r>
              <a:rPr b="1" lang="pl-PL" sz="2000" spc="-1" strike="noStrike">
                <a:solidFill>
                  <a:srgbClr val="2a3d7a"/>
                </a:solidFill>
                <a:latin typeface="Arial"/>
              </a:rPr>
              <a:t>ústavu K62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876560" y="4941360"/>
            <a:ext cx="426708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2a3d7a"/>
                </a:solidFill>
                <a:latin typeface="Arial"/>
              </a:rPr>
              <a:t>Prof. Dr. Ing. Miroslav Svíte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2a3d7a"/>
                </a:solidFill>
                <a:latin typeface="Arial"/>
              </a:rPr>
              <a:t>Ing. Pavel Hrubeš, Ph</a:t>
            </a:r>
            <a:r>
              <a:rPr b="1" lang="en-US" sz="1400" spc="-1" strike="noStrike">
                <a:solidFill>
                  <a:srgbClr val="2a3d7a"/>
                </a:solidFill>
                <a:latin typeface="Arial"/>
              </a:rPr>
              <a:t>.</a:t>
            </a:r>
            <a:r>
              <a:rPr b="1" lang="cs-CZ" sz="1400" spc="-1" strike="noStrike">
                <a:solidFill>
                  <a:srgbClr val="2a3d7a"/>
                </a:solidFill>
                <a:latin typeface="Arial"/>
              </a:rPr>
              <a:t>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8"/>
          <p:cNvSpPr/>
          <p:nvPr/>
        </p:nvSpPr>
        <p:spPr>
          <a:xfrm>
            <a:off x="684360" y="5200200"/>
            <a:ext cx="352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Květen </a:t>
            </a: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200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9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6" descr="Multimetr"/>
          <p:cNvPicPr/>
          <p:nvPr/>
        </p:nvPicPr>
        <p:blipFill>
          <a:blip r:embed="rId1">
            <a:lum bright="54000"/>
          </a:blip>
          <a:stretch/>
        </p:blipFill>
        <p:spPr>
          <a:xfrm>
            <a:off x="7496280" y="3789360"/>
            <a:ext cx="1647720" cy="248616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Odborné aktivity ústavu - 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34160" indent="-43416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Bezpečnost a spolehlivost telematických systémů a zařízení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ahrnuje návrh, implementaci, ověřování a akreditaci různých (pozemních i kosmických) telematických systémů a zařízení zejména systémy železniční zabezpečovací techniky tak, aby byly garantovány požadované systémové parametry. K daným aplikacím budou přidány i systémy testování a certifikace vybraných aplikací dle platných směrnic a standardů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dborným koordinátorem této oblasti bude:</a:t>
            </a:r>
            <a:br>
              <a:rPr sz="2400"/>
            </a:b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Ing. Martin Leso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polupracující členové ústav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Ing. Faran, Ing. Fábera, Ing. Marvan, at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Zástupný symbol pro zápatí 3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Odborné aktivity ústavu - 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38840" indent="-43884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Identifikační a navigační systémy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- zahrnuje návrh, implementaci a ověřování různých navigačních a identifikačních systémů s komponentami geoinformatiky jako jsou systémy automatického tísňového volání, systémy dynamické navigace, satelitní systémy elektronického mýtného, systémy pro sledování přepravy nebezpečných nákladů, atd. K daným aplikacím budou realizovány i systémy testování a certifikac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8840" indent="-43884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dborným koordinátorem této oblasti bude:</a:t>
            </a:r>
            <a:br>
              <a:rPr sz="2400"/>
            </a:b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Ing. Petr Bureš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8840" indent="-43884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polupracující členové ústavu: 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c. Zelinka, Ing. Hrubeš, Ing. Vlčková, at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8840" indent="-43884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Zástupný symbol pro zápatí 3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Stěžejní kooperace ústav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447920" y="914040"/>
            <a:ext cx="36194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ŠKODA AU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elemati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neyw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Ž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ELTO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PM Con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ČD Telematika, a.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Unicontr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družení pro dopravní telematik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219640" y="914040"/>
            <a:ext cx="36194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Partneři veřejné správ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nisterstvo dopravy Č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nisterstvo školstv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licie Č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Ředitelství silnic a dáln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práva železniční dopravní ces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agistrát hl. m. Pra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Zástupný symbol pro zápatí 3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Kooperace ústavu v oblasti VaV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447920" y="914040"/>
            <a:ext cx="36194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ápadočeská univerzita v Plz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Univerzita Pardub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asarykova univerzita v Brn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echnická univerzita Libere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ysoké učení technické v Brn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ysoká škola báňská- Technická univerzita Ostra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219640" y="914040"/>
            <a:ext cx="36194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Ústav Informatiky AV Č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Zástupný symbol pro zápatí 3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Zahraniční kooperace ústav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447920" y="914040"/>
            <a:ext cx="36194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Žilinská univerzi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U Del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U Mnich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U Linkop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U Víde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U Southhampt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lytechnica Tori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219640" y="914040"/>
            <a:ext cx="36194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EC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IAR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RT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ITS asoci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Zástupný symbol pro zápatí 3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Možnosti kooperace ústav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ítáme veškeré formy spoluprá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16640" indent="-450720"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ojekty ministerstev (MPO, MD,…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16640" indent="-450720"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zdělávací projekty (E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16640" indent="-450720"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vropské program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16640" indent="-450720"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radenství a odbornou čin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spcBef>
                <a:spcPts val="24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spcBef>
                <a:spcPts val="45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ontak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16640" indent="-45072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Ing. Pavel Hrubeš, Ph.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16640" indent="-45072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Konviktská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016640" indent="-45072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110 00 Praha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016640" indent="-45072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016640" indent="-45072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b:   http://www.lss.fd.cvut.cz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016640" indent="-45072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ail: hrubes@lss.fd.cvut.c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016640" indent="-45072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.:  (+420) 224 359 6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016640" indent="-45072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x:   (+420) 224 359 5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016640" indent="-45072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b.:  (+420) 739 604 73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Zástupný symbol pro zápatí 4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" name="Picture 4" descr="sklizen"/>
          <p:cNvPicPr/>
          <p:nvPr/>
        </p:nvPicPr>
        <p:blipFill>
          <a:blip r:embed="rId1"/>
          <a:stretch/>
        </p:blipFill>
        <p:spPr>
          <a:xfrm>
            <a:off x="5072040" y="3571920"/>
            <a:ext cx="3786120" cy="26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ČVUT v Praze, Fakulta dopravní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Zástupný symbol pro zápatí 3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Picture 4" descr="first-page"/>
          <p:cNvPicPr/>
          <p:nvPr/>
        </p:nvPicPr>
        <p:blipFill>
          <a:blip r:embed="rId1"/>
          <a:stretch/>
        </p:blipFill>
        <p:spPr>
          <a:xfrm>
            <a:off x="1612800" y="857160"/>
            <a:ext cx="7245360" cy="54342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4" descr=""/>
          <p:cNvPicPr/>
          <p:nvPr/>
        </p:nvPicPr>
        <p:blipFill>
          <a:blip r:embed="rId2"/>
          <a:stretch/>
        </p:blipFill>
        <p:spPr>
          <a:xfrm>
            <a:off x="5715000" y="3000240"/>
            <a:ext cx="342900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13" descr="070413FotoVyuka2OPRLZ0352"/>
          <p:cNvPicPr/>
          <p:nvPr/>
        </p:nvPicPr>
        <p:blipFill>
          <a:blip r:embed="rId1">
            <a:lum bright="40000"/>
          </a:blip>
          <a:stretch/>
        </p:blipFill>
        <p:spPr>
          <a:xfrm>
            <a:off x="5114880" y="958680"/>
            <a:ext cx="3508560" cy="24084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4" descr="Poslucharny 109"/>
          <p:cNvPicPr/>
          <p:nvPr/>
        </p:nvPicPr>
        <p:blipFill>
          <a:blip r:embed="rId2">
            <a:lum bright="40000"/>
          </a:blip>
          <a:stretch/>
        </p:blipFill>
        <p:spPr>
          <a:xfrm>
            <a:off x="5114880" y="3695760"/>
            <a:ext cx="3529080" cy="237636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ČVUT v Praze, Fakulta dopravní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opravní systémy a techni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anagement a ekonomika dopravy    a telekomunika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utomatizace a informati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Inteligentní dopravní systé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etecká dopra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ofesionální pil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echnologie a údržba leta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Zástupný symbol pro zápatí 3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6" descr="firma"/>
          <p:cNvPicPr/>
          <p:nvPr/>
        </p:nvPicPr>
        <p:blipFill>
          <a:blip r:embed="rId1">
            <a:lum bright="64000"/>
          </a:blip>
          <a:srcRect l="0" t="0" r="2483" b="0"/>
          <a:stretch/>
        </p:blipFill>
        <p:spPr>
          <a:xfrm>
            <a:off x="5329080" y="928800"/>
            <a:ext cx="3600720" cy="26812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7" descr="rewi2"/>
          <p:cNvPicPr/>
          <p:nvPr/>
        </p:nvPicPr>
        <p:blipFill>
          <a:blip r:embed="rId2">
            <a:lum bright="52000"/>
          </a:blip>
          <a:stretch/>
        </p:blipFill>
        <p:spPr>
          <a:xfrm>
            <a:off x="4824360" y="3952800"/>
            <a:ext cx="4176720" cy="180036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ČVUT v Praze, Fakulta dopravní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Ústav aplikované matemati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Ústav dopravních systém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Ústav ekonomiky a managementu dopravy a telekomunikac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Ústav informatiky a telekomunikac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Ústav jazyků a společenských vě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Ústav dopravní techni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Ústav řízení dopravních procesů a logisti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Ústav mechaniky a materiál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Ústav řídicí techniky a telemati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Ústav letecké doprav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Ústav soudního znalectví v doprav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Ústav pro bakalářská studia - pracoviště Děčí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Zástupný symbol pro zápatí 3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447920" y="914040"/>
            <a:ext cx="60530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of. Dr. Ing. Miroslav Svít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12880" indent="-228600">
              <a:spcBef>
                <a:spcPts val="4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edoucí ústav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12880" indent="-228600">
              <a:spcBef>
                <a:spcPts val="4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cca 40 pracovník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12880" indent="-228600">
              <a:spcBef>
                <a:spcPts val="4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db. laboratoř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12880" indent="-228600">
              <a:spcBef>
                <a:spcPts val="4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pec. zařízení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Zástupný symbol pro zápatí 3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Picture 3" descr=""/>
          <p:cNvPicPr/>
          <p:nvPr/>
        </p:nvPicPr>
        <p:blipFill>
          <a:blip r:embed="rId1"/>
          <a:stretch/>
        </p:blipFill>
        <p:spPr>
          <a:xfrm>
            <a:off x="1500120" y="1571760"/>
            <a:ext cx="1357560" cy="1809720"/>
          </a:xfrm>
          <a:prstGeom prst="rect">
            <a:avLst/>
          </a:prstGeom>
          <a:ln w="0">
            <a:noFill/>
          </a:ln>
        </p:spPr>
      </p:pic>
      <p:sp>
        <p:nvSpPr>
          <p:cNvPr id="121" name="TextovéPole 7"/>
          <p:cNvSpPr/>
          <p:nvPr/>
        </p:nvSpPr>
        <p:spPr>
          <a:xfrm>
            <a:off x="1357200" y="3786120"/>
            <a:ext cx="56437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0720" indent="-45072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ktivity ústav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07920" indent="-450720">
              <a:lnSpc>
                <a:spcPct val="10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Arial"/>
                <a:ea typeface="Arial"/>
              </a:rPr>
              <a:t>Výuka a vzdělávání, škole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07920" indent="-450720">
              <a:lnSpc>
                <a:spcPct val="10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Arial"/>
                <a:ea typeface="Arial"/>
              </a:rPr>
              <a:t>Vědecko - výzkumná činnos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07920" indent="-450720">
              <a:lnSpc>
                <a:spcPct val="10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Arial"/>
                <a:ea typeface="Arial"/>
              </a:rPr>
              <a:t>Odborná činnost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65120" indent="-450720">
              <a:lnSpc>
                <a:spcPct val="10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Arial"/>
                <a:ea typeface="Arial"/>
              </a:rPr>
              <a:t>rešeršní práce, posudky, poradenstv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65120" indent="-450720">
              <a:lnSpc>
                <a:spcPct val="10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Arial"/>
                <a:ea typeface="Arial"/>
              </a:rPr>
              <a:t>výzkumné zprávy, pilotní projek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65120" indent="-450720">
              <a:lnSpc>
                <a:spcPct val="10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Arial"/>
                <a:ea typeface="Arial"/>
              </a:rPr>
              <a:t>měření, testování, certifika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Picture 4" descr=""/>
          <p:cNvPicPr/>
          <p:nvPr/>
        </p:nvPicPr>
        <p:blipFill>
          <a:blip r:embed="rId2"/>
          <a:stretch/>
        </p:blipFill>
        <p:spPr>
          <a:xfrm>
            <a:off x="4143240" y="1479600"/>
            <a:ext cx="5086440" cy="302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Oblasti zájmu ústav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Zástupný symbol pro zápatí 3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Obdélník 23"/>
          <p:cNvSpPr/>
          <p:nvPr/>
        </p:nvSpPr>
        <p:spPr>
          <a:xfrm>
            <a:off x="1285920" y="765000"/>
            <a:ext cx="7858080" cy="60724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Skupina 21" descr=""/>
          <p:cNvPicPr/>
          <p:nvPr/>
        </p:nvPicPr>
        <p:blipFill>
          <a:blip r:embed="rId1"/>
          <a:stretch/>
        </p:blipFill>
        <p:spPr>
          <a:xfrm>
            <a:off x="-353880" y="871560"/>
            <a:ext cx="9248760" cy="599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4" descr="tele_sml_prezentace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5818320" y="695160"/>
            <a:ext cx="5040360" cy="323388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Odborné aktivity ústavu - 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Telematické aplikace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ahrnuje návrh architektur dopravně - telematických systémů, tvorbu koncepcí a strategií implementace telematických systémů, kontrola kvality telematických systémů, teorie systémů (dynamické aliance), nové metody v telematice (kvantová informatika), elektronické platby, rozsáhlé systémy, at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dborným koordinátorem této oblasti je</a:t>
            </a:r>
            <a:br>
              <a:rPr sz="2400"/>
            </a:b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Ing. Zuzana Bělinov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polupracující členové ústavu: 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of. Votruba, Prof. Novák, Prof. Svítek, at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Zástupný symbol pro zápatí 3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Odborné aktivity ústavu -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Řízení doprav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ahrnuje návrh a ověřování řídicích systémů pozemní dopravy za pomoci dalších simulačních a modelovacích nástrojů tak, aby byla splněna kriteriální funkce řízení a to jak na úrovni HW, tak i S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dborným koordinátorem této oblasti je</a:t>
            </a:r>
            <a:br>
              <a:rPr sz="2400"/>
            </a:b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Ing. Vladimír Falt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polupracující členové ústav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of. Vysoký, Prof. Přibyl, Doc. Tichý, at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Zástupný symbol pro zápatí 3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4" descr="P1010372"/>
          <p:cNvPicPr/>
          <p:nvPr/>
        </p:nvPicPr>
        <p:blipFill>
          <a:blip r:embed="rId1">
            <a:lum bright="58000"/>
          </a:blip>
          <a:stretch/>
        </p:blipFill>
        <p:spPr>
          <a:xfrm>
            <a:off x="3986280" y="3457440"/>
            <a:ext cx="5157720" cy="290052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Odborné aktivity ústavu - 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Lidský faktor v doprav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ahrnuje návrh a ověřování rozhraní člověk-stroj včetně realizace těchto rozhraní na simulátorech. V rámci této oblasti je i skupina zabývající se zpracováním různých signálů (Eye Tracking, Oxygenation Monitor, EEG, EKG,  atd.) a vytěžování těchto dat pro další přidružené oblasti jako je posuzování ovládacích prvků vozidel, at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dborným koordinátorem této oblasti je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Ing. Petr Bouchner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polupracující členové ústav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Prof. Novák, Prof. Faber, at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Zástupný symbol pro zápatí 3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2T13:27:44Z</dcterms:created>
  <dc:creator>Pavel Hrubeš</dc:creator>
  <dc:description/>
  <dc:language>en-US</dc:language>
  <cp:lastModifiedBy>Pavel Hrubeš</cp:lastModifiedBy>
  <dcterms:modified xsi:type="dcterms:W3CDTF">2009-05-13T12:55:13Z</dcterms:modified>
  <cp:revision>685</cp:revision>
  <dc:subject/>
  <dc:title>Pracovní jednání projektu OP RLZ 0352</dc:title>
</cp:coreProperties>
</file>